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968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7A9-098F-44D0-848E-602B484602C9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RB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2004840"/>
            <a:ext cx="86868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hows link between budget allocations and how male &amp; female household members spend thei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electricity &amp; fue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household water supply &amp; wat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childcare services &amp; staying at home to care for kids &amp; not earning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public transportation &amp; time spent trav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compare imputed value of unpaid care work wit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224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value of caring work in household vs... personnel cost of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hospitals &amp; cre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58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uld be done by government or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NALYSIS OF IMPACT OF THE BUDGET ON TIM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197800"/>
            <a:ext cx="86868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22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curate &amp; reliable analysis requires time us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rge time use survey is resource-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NGO cannot do large time use surv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time use data requires spe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om feminists: Time use survey tells us nothing we don’t know al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11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om anti-feminists: Gender roles are as they sh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NALYSIS OF IMPACT OF THE BUDGET ON TIME USE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ENDER-AWARE MEDIUM-TERM ECONOM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OLICY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5880" y="1981080"/>
            <a:ext cx="86868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wo interpre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 = multi-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use same tools as for single-year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indication of overall trends planned over next few years e.g. growth/stagnation of soci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odel = ‘adding gend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ng existing variables e.g. labou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variables e.g. unpaid care work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have impact, ideally done b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ENDER-AWARE MEDIUM-TERM ECONOM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OLICY FRAMEWORK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582640"/>
            <a:ext cx="61722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ng labour supply fairly simple;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unpaid care work more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ding unpaid care work requires time us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gendering model is only first st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20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20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ed advocacy on implications for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ery little experience internationally in doing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250200" y="741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04520"/>
            <a:ext cx="868680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tool of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hould be done on regular basis e.g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ne by government, but to be used by parliament &amp;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discursive or table or indicator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asiest if programme/performance budgeting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combined with some of the oth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RESPONSIVE BUDGET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81920"/>
            <a:ext cx="8686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eed strong instructing agency to ensure all agencies d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fficials may lack gender analysis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tatement can become advert – tell only good n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liament &amp; civil society need to read &amp; comment or officials lose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rade-off between including in standard documents (hidden away) vs. separate documents (ignored by mainstream budget rea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RESPONSIVE BUDGET STATEMENT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ACKGROUND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RHONDA SHARP 3-WAY CATEG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75400"/>
            <a:ext cx="868680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veloped for use in South Australia in 198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sed as basis for annual gender budget statements of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Used to report post-hoc on budget, not to formulat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ull budget divided into 3 categories totalling 100% of 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omen-specific expendi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cations to programmes explicitly targeted to women and girls e.g. women’s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health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qual opportunities in the public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ocations for existing or prospective government officials promoting equal representation in decision-making, equitable pay &amp; conditions of service e.g. mentoring programmes for women public serv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eneral or mainstream expendi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-11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ll other allocations analysed for gende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206440"/>
            <a:ext cx="86868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hould it be ‘women’ or ‘g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Tendency to focus on first category because easi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0" lang="en-ZA" sz="18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st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important as affirmative action/positive discrimina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5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anger of focusing on cru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55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an give misleading picture e.g. Pakistan expenditure on girls’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74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ome interpret 2</a:t>
            </a:r>
            <a:r>
              <a:rPr b="0" lang="en-ZA" sz="20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n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as % of salaries &amp; allowances going to w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mportant question because large % of budgets is sa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an be important in countries with strict gender roles (e.g. lady doctors &amp; teac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1240" indent="-122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anger of focusing on relatively privileged government officials vs... poor people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USING SHARP 3-WAY CATEG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3657240"/>
            <a:ext cx="388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55520" indent="-122040">
              <a:lnSpc>
                <a:spcPct val="100000"/>
              </a:lnSpc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amework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580480"/>
            <a:ext cx="769644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 commissioned by  Commonwealth Secretari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develop GRB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ne in very early days of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ed on basis of existing approaches, adapted for G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cus o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aly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rather than development of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need to use all these tools for every GRB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se ar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the only availabl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ISTORY OF ELS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199240"/>
            <a:ext cx="86868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bably most commonly used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ood to use early in GRB initi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arn how budget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vides material for training &amp; awareness 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ludes qualitative and quantitat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ften used by civil societ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by government, e.g. for CEDAW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r by Morocco &amp; France for gender budge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2580480"/>
            <a:ext cx="5715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ten uses 5-step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 analysis of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/programme analysis within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budget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alysis of outcomes/impact/change in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ther tools don’t cover all th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07520"/>
            <a:ext cx="86868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cess t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an become basis of further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lliances with government improv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ew people with budget &amp; sectoral &amp; gender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-step approach excludes some importa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stitutional issues e.g. budget process, how &amp; by whom budgets are formulated,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lexibility in decision-making (especially local go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112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ole of formal rules vs.... informal networks in 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ENDER-AWARE POLICY APPRAISAL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198880"/>
            <a:ext cx="868680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s users/beneficiaries of services about their 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by government or civi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be done on varying scale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 health clinic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 service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ctor-wide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ocality wide acro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n use different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pinion polls vs. attitude surveys vs. group discussion vs. interview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-aware beneficiary assess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 both male and female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k about gender-relate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CIARY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199600"/>
            <a:ext cx="868680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pturing views of less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iterac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roblems of fear of re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ade-offs between quality vs.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losed-ended short questionnaire t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0960" indent="-12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pen-ended interaction with a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fficult to cover more than one servic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 half the picture if only listen to beneficiaries &amp; ignore non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t how to reach non-benefici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CIARY ASSESSMENT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351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EX-DISAGGREGATED PUBLIC EXPENDITURE INCIDENCE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199600"/>
            <a:ext cx="868680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stimates distribution of budget between male &amp; femal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asuring unit costs of providing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ultiplying unit cost by number of units delivered to male/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r example, how much education expendi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aches male/female learners at different level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522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aches male/female learners from different incom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used to estimate gender impact of proposed budget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sually done by non-government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351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EX-DISAGGREGATED PUBLIC EXPENDITURE INCIDENCE ANALYSIS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428560"/>
            <a:ext cx="8686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fficult/impossible if service delivered to individuals cannot be sex-disag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ends on data availability e.g. household surveys with correct questions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&amp; uni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quires ability to analyse large data-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it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sumes that unit cost of delivery does not change e.g. urban vs...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ssumes that quality of service is similar acros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nless income or another element is added, this tool does not tell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 more than simple sex-disaggregation of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1:28:21Z</dcterms:created>
  <dc:creator>Meli</dc:creator>
  <dc:description/>
  <dc:language>en-US</dc:language>
  <cp:lastModifiedBy>natalia  tomaszewska</cp:lastModifiedBy>
  <dcterms:modified xsi:type="dcterms:W3CDTF">2007-03-06T23:43:55Z</dcterms:modified>
  <cp:revision>35</cp:revision>
  <dc:subject/>
  <dc:title>PowerPoint Presentation</dc:title>
</cp:coreProperties>
</file>