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4492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F39D-1898-4B4F-BD62-F71C9263400A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WORKSHOP OBJECTIVES AND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2819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NDER RESPONSIVE BUDGE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80" y="3301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WORKSHOP OBJECTIVES AND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37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RAINING MANUAL AND RESOURCE PACK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RB and Reproductiv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68240"/>
            <a:ext cx="781668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Developing understanding of GRB as a policy advocac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nd technical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xposure to country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Building skills to programming that supports GRB wor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t country level</a:t>
            </a:r>
            <a:r>
              <a:rPr b="1" lang="en-US" sz="2600" spc="-1" strike="noStrike">
                <a:solidFill>
                  <a:srgbClr val="006699"/>
                </a:solidFill>
                <a:latin typeface="Arial Narrow"/>
                <a:ea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eded skills for G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WORKSHOP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733480"/>
            <a:ext cx="838224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1: Gender budgeting: concepts, principles and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2: Budget format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3: Tools for Gender Budge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4: Experiences of gender budget initiatives (GB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ule 5: Gender Budget Initiatives from withi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ing GRB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eded skills for G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4920" y="6400800"/>
            <a:ext cx="9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eded skills for G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2880" y="380880"/>
            <a:ext cx="8561520" cy="591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97120" y="2909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REA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ENDER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46160" y="445788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NALYSIS AND IDENTIFICATION OF NEEDED 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222732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NTRY POINTS PARTNE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71424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NALYSIS OF BUDGETS WITH A GENDER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66000" y="19764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STITUTING MECHANISMS FOR GRB WITH GOV AND/OR OU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4809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LICY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840" y="3610080"/>
            <a:ext cx="2438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derstanding of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trategic plann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d budget pro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73000" y="927000"/>
            <a:ext cx="2438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derstanding budge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ormats and budge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alysis too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15040" y="822240"/>
            <a:ext cx="243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tools, dat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etworks, capac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35880" y="3429000"/>
            <a:ext cx="243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dvocacy an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articip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410080"/>
            <a:ext cx="2438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apacity of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ender analy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7:26:47Z</dcterms:created>
  <dc:creator>Meli</dc:creator>
  <dc:description/>
  <dc:language>en-US</dc:language>
  <cp:lastModifiedBy>natalia  tomaszewska</cp:lastModifiedBy>
  <dcterms:modified xsi:type="dcterms:W3CDTF">2007-03-06T23:36:31Z</dcterms:modified>
  <cp:revision>28</cp:revision>
  <dc:subject/>
  <dc:title>PowerPoint Presentation</dc:title>
</cp:coreProperties>
</file>