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045640" y="64008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C08F-54CD-456A-97A4-6C5332DB6C73}" type="slidenum">
              <a:rPr b="0" lang="en-US" sz="16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STING THE MDG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WITH FOCUS ON RH &amp; G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242440"/>
            <a:ext cx="868680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any countries now say MDGs are their overall develop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If we say budget must follow plan, MDGs become important for GRB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here are several different estimates of global MD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Global estimates are mainly useful in informing UN, donors &amp; IFIs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of what ‘extra’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ome countries are developing national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an be sign that MDGs are taken seri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Different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For MDGs as a w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For specific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For other categor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COSTING THE MDG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196360"/>
            <a:ext cx="86868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Wide variation in estim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Zedillo Report of High Level Panel on FFD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: $50 bn p.a. to achieve 2015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World Bank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: Cost to donors = US$ 35- $76 bn p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UNDP HDR background paper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: Goal 1 = US$ 76b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UNFPA’s MYF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World Bank estimates US$ 20-25 bn p.a. for health-related MDGs </a:t>
            </a: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2001 international financial resource flows for population-related assistance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= US$ 2.5b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National estimates more helpful for GR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ould be more accurate because better base 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an be used in discussions about national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GLOBAL ESTIM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994040"/>
            <a:ext cx="86868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10 ‘models’ with spreadsheets &amp; user gu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ivision into models does not match division into go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Water &amp; san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Hu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hil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aternal &amp; reproductive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HIV/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a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ritique from Morocco GR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How does one deal with cross-sectoral/goal interac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MILLENIUM PROJECT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00200" y="2120400"/>
            <a:ext cx="579132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Interventions cos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10 on family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5 on antenatal care and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7 on obstetric co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3 on other matern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3 on newbo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5 on S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For each intervention, calcul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ost per averag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number of potential beneficiaries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total annual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rovide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staff, drugs &amp; other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Does </a:t>
            </a: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not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cov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ost of facilities, equipment &amp; other overhea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MATERNAL &amp; RH 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1964880"/>
            <a:ext cx="701028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o use model, need 5 types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Demograph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e.g. number of women of reproductive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Epidemiologic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e.g. incidence of complications of pregnancy and S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urrent coverage rates for different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Information on drugs and supplie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ost data related to staff, drugs &amp; other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iles/documents provi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st per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otal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sting tool database of default values (for 200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(includes source &amp; assump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ata collection form for ‘Total cos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User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MATERNAL &amp; REPRODUCTIVE HEALTH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2076840"/>
            <a:ext cx="8686800" cy="40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Goes beyond MDG gender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ncludes gender-specific interventions covered in needs assessment for other ‘sector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Supports need for ‘engendering’ all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rovides for gender needs assessment of what needed to make gender policies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(such as national plans) oper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llows costing of elements not covered in needs assessments for other s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Intended to highlight &amp; encourage gender interventions but could have opposite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Gender seen as ‘extra’ &amp; disregarded if limite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etter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Make sure that gender interventions are included as part of mainstream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sector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SEPARATE COSTING OF GENDER EQU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2425680"/>
            <a:ext cx="868680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Question proposed strate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.g. no female con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Question indic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.g. contraceptive usage only for married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xamine default data val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o you agree with values describing situ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o you agree with proposed staff remuneration levels e.g. doctors vs. nur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re some gender-related interventions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.g. Should VAW interventions be inclu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SOME OPPORTUNITIES FOR GR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8120" y="3025080"/>
            <a:ext cx="327636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osting the MDG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REFERENCE TO RESOURCE P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02:16Z</dcterms:created>
  <dc:creator>Meli</dc:creator>
  <dc:description/>
  <dc:language>en-US</dc:language>
  <cp:lastModifiedBy>natalia  tomaszewska</cp:lastModifiedBy>
  <dcterms:modified xsi:type="dcterms:W3CDTF">2007-03-06T23:44:55Z</dcterms:modified>
  <cp:revision>21</cp:revision>
  <dc:subject/>
  <dc:title>PowerPoint Presentation</dc:title>
</cp:coreProperties>
</file>