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05920" y="6324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DCC7-594A-4A67-89AD-ACEAD5FDC215}" type="slidenum">
              <a:rPr b="0" lang="en-US" sz="14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HAT IS A BUD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ASSIFICATIONS &amp; 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STRUCTURE OF A REAL-LIFE BUDGET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GAUTENG DEPARTMENT OF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039760"/>
            <a:ext cx="868680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rategic overview and key polic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re functions of the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gislative man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mental strategic goals &amp;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view of previous financi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utlook for the coming financi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ceipts and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n programme by programme analys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STRUCTURE OF A REAL-LIFE BUDGET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GAUTENG DEPARTMENT OF HEALTH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580840"/>
            <a:ext cx="701028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r each program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gramme description (overall a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gramm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penditure figures for 7 years by sub-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saggregated economic figures for 7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Key outputs &amp; service delivery measures (including targ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STRUCTURE OF A REAL-LIFE BUDGET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AKISTAN MINISTRY OF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966320"/>
            <a:ext cx="86868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ticulars (bureaucratic det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ission/policy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0 points of National Health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bjective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urrent measure &amp; targets for 5 year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edium term allocations by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3 years, 8 of 10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unctional classification of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9 categories, 3 years, current vs.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bject (economic) classification of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0 ‘major’ categories, 3 years, current vs.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STRUCTURE OF A REAL-LIFE BUDGET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AKISTAN MINISTRY OF HEALTH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193480"/>
            <a:ext cx="8686800" cy="34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ross-classification of object vs. function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each of 3 years, separate for current &amp; development, different ‘names’ for functions compared to earlier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Key outpu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y current operations, then by (donor-funded)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tailed numbers for current expenditure, revenue account by 3 divisions, for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unctional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bje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tailed numbers first summarized by division, then broken down for each spending unit (administrative class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4160"/>
            <a:ext cx="8686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et formats can be complicated &amp; overwhel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ings become simpler when you know the format and conven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the country you are working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62320" y="3246120"/>
            <a:ext cx="441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48: What do budgets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868840"/>
            <a:ext cx="8001000" cy="20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 budget is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lan of what government intends to spend on differ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tems/for different purposes in the coming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me budget formats also tell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hether government kept to its plans for previous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What government plans to deliver or has delivered in non-monetary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WHAT IS A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049840"/>
            <a:ext cx="86868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fferent number &amp; types of publications across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me possible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arrative on overall economic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arrative on policy 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me documents might not be tabled on budget day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edium term policy/budget framework BEFOR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nnual agency reports on delivery AFTER budget year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ll documents have potential for assisting GRB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UDGET DOCUMENTS ARE DIV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36720"/>
            <a:ext cx="86868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mmon ways of classifying expenditure in a budge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ften governments present the budget in more than on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COMMON CLASSIFICATIONS FOR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182680"/>
            <a:ext cx="868680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 main expenditure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urrent = expenditures for services &amp; goods likely to last less than one year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&amp; necessary to carry out governmen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alaries of governmen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ubsidies to firms, households &amp;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xpenditure on operations an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pital = expenditures for goods &amp; services to be used for longer than a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pending on technical assistance &amp;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pending on land, buildings, infrastructure,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[Possible 3</a:t>
            </a:r>
            <a:r>
              <a:rPr b="0" i="1" lang="en-ZA" sz="20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rd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category = transfers and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Lump sum transfers to be spent by recipien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bject classification is more detailed economic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ECONOMIC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2889720"/>
            <a:ext cx="685800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xpenditures classified under responsible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according to the Ministries or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according to hospitals &amp; cli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his classification usually used in combination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ith another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ADMINISTRATIV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401920"/>
            <a:ext cx="815328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xpenditure grouped according to function/ purpose for which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t is sp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ome similarity between administrative &amp; functional classifications,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ut not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1592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.g. Ministry of Defence may spend money on medical services for its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12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Functional classification =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12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dministrative classification = Min of Def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FUNCTIONAL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353320"/>
            <a:ext cx="8686800" cy="31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et of activities that government undertakes to reach a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ften used together with administrative classification i.e. each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gency’s budget divided into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ometimes programmes further divided into sub-programmes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r projects, each with own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mplication if government structure not arranged according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o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PROGRAMM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197080"/>
            <a:ext cx="868680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n some countries budget is divided into 2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current, operating or “revenue”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vers mainly operating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evelopment or investment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eant to cover longer-term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Often used mainly to reflect donor part of budget &amp; required counterpart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cludes operating expenses for ‘projec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plit into operating &amp; development budget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Hide implications of one budget for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.g. new clinic will need staff and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o hand-in-hand with split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109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lanning Commission for development budget &amp; Ministry of Finance for re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HOW MANY BUDGE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0:06:19Z</dcterms:created>
  <dc:creator>Meli</dc:creator>
  <dc:description/>
  <dc:language>en-US</dc:language>
  <cp:lastModifiedBy>Meli</cp:lastModifiedBy>
  <dcterms:modified xsi:type="dcterms:W3CDTF">2007-03-08T19:20:37Z</dcterms:modified>
  <cp:revision>29</cp:revision>
  <dc:subject/>
  <dc:title>PowerPoint Presentation</dc:title>
</cp:coreProperties>
</file>