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1880" y="6324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D21D-6C36-4F7C-BE7F-91ACA6E13EE8}" type="slidenum">
              <a:rPr b="0" lang="en-US" sz="1600" spc="-1" strike="noStrike">
                <a:solidFill>
                  <a:srgbClr val="f0813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LANNING AND POLICY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HOW CAN GRB ASSI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7240" y="685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XAMPLES OF INDICATORS IN PERFORMANCE BUDGETING FOR POPULATION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8091360" cy="425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57760" y="2274840"/>
            <a:ext cx="27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GENDER RESPONSIVE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9440" y="3036960"/>
            <a:ext cx="26269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put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Budget, equipment, service outlet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Employees, logistics, buildings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00600" y="3141720"/>
            <a:ext cx="28065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cess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Training HRD, Monitoring/Supervi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4880" y="4103640"/>
            <a:ext cx="2596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utput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Performance, Contraceptive use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Couple Years of Protection (CYP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6880" y="5291280"/>
            <a:ext cx="247284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utcome/Impact Indica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Contraceptive Prevalence R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(CPR), Total Fertility Rate (TFR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Population Growth Rate (PG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045520"/>
            <a:ext cx="868680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rom examination of budget form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erformance budgeting takes many differe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erformance budgeting works better when done with budgets organised by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erformance budgeting objectives should be linked to government’s overall develop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RB initiatives need to take broader planning &amp; policy developments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RB initiatives need to prioritize what aspects they tackle so as not to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e overwhel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SOME FINAL THOU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207160"/>
            <a:ext cx="86868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50: Budget 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58: 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exican guide to formulating health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ector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REFERENCES TO RESOURCE P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1967040"/>
            <a:ext cx="868680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esear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ually outside government, as basis for advocacy, but government may do research to inform policies &amp;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voc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Usually outside government, but CAN be inside government &amp;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nito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key role of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overnment should monitor as part of management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ivil society can monitor 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whom? By whom? To do &amp; know 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wareness-rai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r whom? By whom? To achieve 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licy analysis &amp; desig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is is Government’s role but it can involve other 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53352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OMMON GRB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5 STEPS OF GENDER ANALYSIS OF BUD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770120"/>
            <a:ext cx="838188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scribe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ituation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of women &amp; men, girls &amp; bo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heck whether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licy is gender-sensitive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i.e. whether it addresses the situation described in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heck that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equate budget is allocated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to implement the gender-sensitiv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heck whether the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penditure is done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as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amine the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mpact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of the policy and expenditure i.e. whether it has promoted gender 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uch of the above is familiar to people working on gender main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added value is the inclusion of budget-relat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mphasises that the situation drives the policy which in turn drives th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5 steps can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y those outside government to assess government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y government for planning through implementation to M&amp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187720"/>
            <a:ext cx="868680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mprove efficiency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by ensuring expenditure benefits thos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o need it 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mprove monitoring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by knowing who government services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r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ack implementation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reduce corru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mprove transparency and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port on progress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with national and international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der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BENEFITS OF GRB WORK FOR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92760" y="738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USES OF GRB FOR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0257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342900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ENDER RESPONSIV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9760" y="611352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ing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65240" y="16938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ioritiz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34360" y="2332080"/>
            <a:ext cx="11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mpac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7040" y="375120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u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6600" y="489420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nitoring &amp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58600" y="2303640"/>
            <a:ext cx="101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mo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4680" y="378288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35920" y="4830840"/>
            <a:ext cx="158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tilizing huma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s to thei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ull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MEXICAN GUIDE FOR BUDGET FORMATION IN HEALTH S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68480"/>
            <a:ext cx="86868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uide developed as joint effort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Ministry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2 NGOs – one budget analysis &amp; one women’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Aim: Assist government planners in designing gender-sensitive </a:t>
            </a:r>
            <a:br>
              <a:rPr sz="2000"/>
            </a:b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olicies &amp; budg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ntrodu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GRB is 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not 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bout how much money is spent on services for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GRB is about allocating money for activities that eliminate gender barriers to (mainly) women and (some) men accessing health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ix steps of formulating gender-responsive budg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iagnosis 1: Revision of the diagnosis using a gender equality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iagnosis 2: Analysis of gender 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ing 1: Determination of components and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ing 2: Determination of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dgeting 1: Allocation of resources for addressing gender 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dgeting 2: Design of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7240" y="658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MEXICAN GUIDE FOR BUDGET FORMATION IN HEALTH SECTOR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079360"/>
            <a:ext cx="8686800" cy="39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3 categories match the first 3 steps of the 5-step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More clearly expressed as things to be done by government officials when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formulating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uide stresses prioritization of strategies/actions with biggest impact on gender 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Not 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(usually) about completely changing existing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s about incrementally incorporating gender equality criteria within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Questions to assist with incorporating gen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 which of existing headings can funds for actions towards gender equality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e inclu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 which of existing components can new headings (or sub-programmes)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e inclu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s it necessary to allocate resources to create new/better da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hould some resources be directed to particular groups to address their </a:t>
            </a:r>
            <a:br>
              <a:rPr sz="1800"/>
            </a:b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pecific nee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212560"/>
            <a:ext cx="8686800" cy="40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erformance budgeting says that budg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re not only about financial 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hould align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oney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with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policies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and the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verall objectives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of government (including gender equ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ll circular for performance budgeting usually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gencies must report on 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ission, goals, strategic issues, objectives, performance target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erformance budgeting has same basic framework as 5 step-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t GRB adds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quity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to traditional 3Es of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conomy, Efficiency,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utting gender into performance budge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 issues can be reflected explicitly or implicitly in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 can be reflected explicitly by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isaggregation of targets and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 can be reflected by inclusion of </a:t>
            </a: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argets and indicators that focus on </a:t>
            </a:r>
            <a:br>
              <a:rPr sz="2000"/>
            </a:b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der-relevant issues </a:t>
            </a: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.g. VAW or fer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GRB &amp; PERFORMANCE BUDG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PERFORMANCE BUDGETING &amp; THE 3 E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39560" y="2133720"/>
            <a:ext cx="8212320" cy="424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91080" y="2274840"/>
            <a:ext cx="1451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ovide health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care which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vents dise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6560" y="227484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labor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frastructur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1520" y="2274840"/>
            <a:ext cx="111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Glaucoma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ye diseas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re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4720" y="227484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duc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evalence of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y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25002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85680" y="4179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417996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35680" y="417996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ffec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42760" y="5614920"/>
            <a:ext cx="119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st of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edical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74800" y="561492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st per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re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2760" y="5500800"/>
            <a:ext cx="1549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Detection rates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of glaucoma for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target pop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1240" y="181764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licy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2040" y="181764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40160" y="1817640"/>
            <a:ext cx="68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72120" y="181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8840" y="181764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848720" y="1939680"/>
            <a:ext cx="75960" cy="152280"/>
          </a:xfrm>
          <a:prstGeom prst="line">
            <a:avLst/>
          </a:prstGeom>
          <a:ln w="9360">
            <a:solidFill>
              <a:srgbClr val="f0813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10040" y="166536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utr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880" y="574848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formance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548640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Figure 2.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he basic structur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utcomes and outpu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udgeting application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 health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1:33:58Z</dcterms:created>
  <dc:creator>Meli</dc:creator>
  <dc:description/>
  <dc:language>en-US</dc:language>
  <cp:lastModifiedBy>natalia  tomaszewska</cp:lastModifiedBy>
  <dcterms:modified xsi:type="dcterms:W3CDTF">2007-03-06T23:41:20Z</dcterms:modified>
  <cp:revision>54</cp:revision>
  <dc:subject/>
  <dc:title>PowerPoint Presentation</dc:title>
</cp:coreProperties>
</file>