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74900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7F69-0502-4342-BFB2-769182F47BB1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¡HAY MÁS POSIBILIDADES DE LAS QUE TÚ CREÍ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4290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 Narrow"/>
              </a:rPr>
              <a:t>DATOS REQUERIDOS PARA EL PS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INCIDENCIA SOBRE EL USO DEL TIEMPO EN TANZANIA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R UNA ONG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951200"/>
            <a:ext cx="815328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hicieron más actividades para echar los cimientos de que el trabajo de cuidado no remunerado se incluya en el modelo macroeconóm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alleres para explicar su impor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vestigación en dos distritos sobre el tiempo que dedican los miembros de la familia al cuidado de las personas enfermas con VIH/S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uniones con la Dirección Nacional de Estadística (NBS) para ofrecerles apoyo en la movilización de recursos y la experticia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cidencia y conscientización entre niveles de decisión sobre el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1432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BS aceptó realizar la encu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1432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gobierno aceptó proporcionar la mayor parte del financi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1432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ICEF dio un fondo pequeño para el apoyo técnico y afí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estudio del uso del tiempo está ejecutándose actualmente en el campo, como agregado al estudio de todo el año sobre la fuerz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GNP proporciona el apoyo técnico y la planificación sobre cómo usar los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OTRAS POSIBILIDADES PARA ONG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108160"/>
            <a:ext cx="8381880" cy="40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rabajar con organismos estadísticos del gobierno para recolectar datos más exactos sobre el gé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ONGs en Pakistán, financiadas por el FNUAP, para ayudar con el cens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l 1998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1432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a ONG hizo capacitación en género para las/los enumeradores censales para que pudieran reconocer el trabajo “invisible” realizado por las muje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1432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a ONG organizó a 120 organizaciones populares para celebrar reuniones a nivel de distrito para conscientizar sobre el aporte femen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dentificar los problemas cuando los indicadores sean distors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los índices de uso de anticonceptivos en base únicamente a la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ujeres cas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encuestas que no cubren todas las áreas / personas (por ejemplo, asentamientos informales o trabajadores/as migr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152280" y="3193200"/>
            <a:ext cx="91440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tadí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REFERENCIA AL PAQUETE DE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2289600"/>
            <a:ext cx="76960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datos desagregados por sexo distinguen entre hombres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y mujeres. 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244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úmero de hombres y de mujeres esteriliz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244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úmero de médicos y mé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tos sensibles al género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244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tos desagregado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244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tos sobre asuntos importantes desde una perspectiva de género,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mo por 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tos sobre la mortalidad mat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tos sobre la violencia contra las muje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ecesitamos ambos tipos de datos para el PS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tabLst>
                <a:tab algn="l" pos="0"/>
                <a:tab algn="l" pos="2457360"/>
                <a:tab algn="l" pos="4915080"/>
                <a:tab algn="l" pos="7372440"/>
                <a:tab algn="l" pos="9829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ATOS DESAGREGADOS POR SEXO VERSUS DATOS SENSIBLES AL GÉ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ESAGREGACIÓN DE PRESUPUES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981080"/>
            <a:ext cx="8077320" cy="46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análisis de los presupuestos suele frustrarse por la falta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desagre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 se desagrega en hombres / muj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 se desagregan las asignaciones en gastos perti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3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no hay partida por separado para la policía que trabaja con las órdenes de protección contra violencia domé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63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no se puede separar a las/los pacientes tratados por problemas relacionados con el VIH/SIDA de los de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falta de desagregación en las cifras del presupuesto no quiere decir que sea imposible hacer el análisis de gé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pueden usar variables sustituto (“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xy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3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el número de órdenes de protección emit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63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el número de personas que se sometieron a pruebas de VIH o que recibieron medicinas anti-retrovir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680" y="2616120"/>
            <a:ext cx="832320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presupuestación en base al desempeño usa tres tipos de indicadores con relación a las “actividades” del gobier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sumos –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 que se compra con las asignaciones del presupuesto para poder realizar las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ductos –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 que “entregan” las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ultados –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“efectos” de las activ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os países también tienen indicadores de “proces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INDICADORES DEL PRESUPUE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¿QUÉ ES UN “INDICADOR”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916280"/>
            <a:ext cx="7772400" cy="49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indicador proporciona información sobre una situación pero no su realidad total = sistema de alerta que señala donde se necesita más inves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recuen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insumos y productos se necesitan datos an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resultados los datos pueden ser menos frec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os principales fuentes de 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dministrativos – del gobierno al cumplir sus f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on buenos para el PSG porque se relaciona directamente con los servicios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ensos y enc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on buenos para el análisis de la situación o de los resultados, porque abarca a toda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pobl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o pueden existir contradicciones entre los datos administrativos y los censales / de enc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 necesario compararlos para verificar la confia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133360"/>
            <a:ext cx="731520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dministra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istema de Información Gerencial de Salud (y otros siste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gistros de asistencia / ingreso en centros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enso pobl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sualmente cada 10 años, de modo que no es muy útil para los presupuestos an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c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cuesta de Medición de Niveles Sociales y de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cuestas Demográficas y Sani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cuestas de la Fuerz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cuesta de Grupos de Indicadores Múltiples (UNIC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cuestas de Uso d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RINCIPALES FUENTES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2453040"/>
            <a:ext cx="868680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 problema común en las iniciativas de PSG (y otras de transversaliz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co o nada de datos relacionados con el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falta de estadísticas de género no tiene que impedir que se haga el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rabajo de género. El trabajo de PS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servir como ímpetu para la generación de más y mejores dat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nsibles al gén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estimular encuestas / investigaciones indiv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(aún mejor) llevar a la creación / mejoras en los sistema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dministrativos institucionali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¿QUÉ HACER SI LOS DATOS NO ESTÁN DISPONI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320" y="2067840"/>
            <a:ext cx="8686800" cy="43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alizar investigaciones en pequeña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sar los resultados hasta que el gobierno tenga resultados “más grandes” que contradigan los su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mostrar que es posible recolectar datos sobre los nuevos asuntos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alizar los dato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gregar por sexo cuando el análisis básico no lo h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ñalar las interrogantes / temas que fal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ñalar las preguntas que no se expresan de manera apropi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ñalar los demás problemas metod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ñalar los resultados contradictorios de diferentes f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frecer la experticia de las ONG’s para ayudar a las personas responsables de la recolección de los datos ofi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¿QUÉ PUEDEN HACER LAS ONG’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320" y="2162160"/>
            <a:ext cx="8686800" cy="40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997: El Programa de la Red de Género en Tanzania (TGNP) comenzó a trabajar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n P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ició un diagnóstico de políticas con conciencia de género en educación, salud y agricu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998: El Ministerio de Finanzas comenzó con el trabajo del PSG dentro del 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idió que el TGNP ayudara a las/los funcionarios sectoriales con el manual, la capacitación y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segu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tonces, el TGNP amplió su enfoque más allá de la oficina de presupuestos, para influir en la planificación macroeconómica más amplia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alizó una encuesta sobre el uso del tiempo para producir los datos faltantes que se necesita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rganizó reuniones y talleres con la Comisión de Planificación para conscientizar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izo incidencia para que la parte laboral del nuevo modelo macroeconómico se desagregara por sex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cargó un estudio en base al nuevo modelo macroeconómico desagregado por sexo para mostrar su poten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INCIDENCIA SOBRE EL USO DEL TIEMPO EN TANZANIA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R UNA 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0:00:53Z</dcterms:created>
  <dc:creator>Meli</dc:creator>
  <dc:description/>
  <dc:language>en-US</dc:language>
  <cp:lastModifiedBy>Meli</cp:lastModifiedBy>
  <dcterms:modified xsi:type="dcterms:W3CDTF">2007-03-09T23:10:49Z</dcterms:modified>
  <cp:revision>40</cp:revision>
  <dc:subject/>
  <dc:title>PowerPoint Presentation</dc:title>
</cp:coreProperties>
</file>