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1240" indent="-111240">
              <a:spcBef>
                <a:spcPts val="601"/>
              </a:spcBef>
              <a:buClr>
                <a:srgbClr val="000000"/>
              </a:buClr>
              <a:buSzPct val="90000"/>
              <a:buFont typeface="Arial Narrow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401760" indent="-111240">
              <a:spcBef>
                <a:spcPts val="601"/>
              </a:spcBef>
              <a:buClr>
                <a:srgbClr val="e8942b"/>
              </a:buClr>
              <a:buSzPct val="90000"/>
              <a:buFont typeface="Times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689040" indent="-111240">
              <a:spcBef>
                <a:spcPts val="601"/>
              </a:spcBef>
              <a:buClr>
                <a:srgbClr val="000000"/>
              </a:buClr>
              <a:buSzPct val="90000"/>
              <a:buFont typeface="Arial Narrow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912960" indent="-109800"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90000"/>
              <a:buFont typeface="Arial Narrow"/>
              <a:buChar char="»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90000"/>
              <a:buFont typeface="Arial Narrow"/>
              <a:buChar char="»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90000"/>
              <a:buFont typeface="Arial Narrow"/>
              <a:buChar char="»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"/>
          <p:cNvSpPr/>
          <p:nvPr/>
        </p:nvSpPr>
        <p:spPr>
          <a:xfrm>
            <a:off x="8044920" y="632448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B2CD-6E78-4AF4-8999-C9CBBD4C3A62}" type="slidenum">
              <a:rPr b="0" lang="en-US" sz="1600" spc="-1" strike="noStrike">
                <a:solidFill>
                  <a:srgbClr val="eb742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28195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LOS PRESUPUESTOS SENSIBLES AL GÉNER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6480" y="33019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OBJETIVOS DEL TALLER Y “MAPA DE RUTA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MANUAL DE CAPACITACIÓN Y PAQUETE DE RECURSOS</a:t>
            </a:r>
            <a:br>
              <a:rPr sz="2600"/>
            </a:br>
            <a:r>
              <a:rPr b="0" lang="es-ES_tradnl" sz="2600" spc="-1" strike="noStrike">
                <a:solidFill>
                  <a:srgbClr val="ffffff"/>
                </a:solidFill>
                <a:latin typeface="Arial Narrow"/>
              </a:rPr>
              <a:t>PSG Y SAUUD REPRODUC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2478960"/>
            <a:ext cx="781668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Desarrollar un entendimiento de los PSG como herramienta técnica y para la incid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Exposición a las experiencias de los paí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Fortalecer las destrezas para la programación que apoyen el trabajo con los PSG a nivel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2722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Destrezas necesarias para el PS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COMPONENTES DEL TALL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2228400"/>
            <a:ext cx="8381880" cy="33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Módulo 1: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 El Presupuesto con Enfoque de Género: conceptos,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principios y propó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Módulo 2: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 Los formatos y procesos de los presu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Módulo 3: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 Herramientas para el análisis presupuestario con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enfoque de gén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Módulo 4: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 Experiencias de iniciativas con presupuestos de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género (IPG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Módulo 5: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 Iniciativas de presupuestos sensibles al género desde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dentro del gobi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Apoyo al trabajo de P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2722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Destrezas necesarias para el PS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9067680" cy="6107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639960" y="457200"/>
            <a:ext cx="1846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ANÁLISIS DE PRESUPUESTOS CON PERSPECTIVA DE GÉN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4460760"/>
            <a:ext cx="190512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 Narrow"/>
              </a:rPr>
              <a:t>ANÁLISIS E IDENTIFICACIÓN DE LA INTERVENCIÓ REQUERID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95480" y="1994040"/>
            <a:ext cx="180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PUNTOS DE ENTRADA PARA LAS ALIAN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89560" y="1797120"/>
            <a:ext cx="18288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 Narrow"/>
              </a:rPr>
              <a:t>INSTITUI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 Narrow"/>
              </a:rPr>
              <a:t>MECANISMOS PARA PSG EN 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 Narrow"/>
              </a:rPr>
              <a:t>GOBIERNO Y/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 Narrow"/>
              </a:rPr>
              <a:t>FUERA DE É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76320" y="3581280"/>
            <a:ext cx="2438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 Narrow"/>
              </a:rPr>
              <a:t>Comprender el proceso de planificación estratégica </a:t>
            </a:r>
            <a:br>
              <a:rPr sz="1500"/>
            </a:br>
            <a:r>
              <a:rPr b="0" lang="es-ES_tradnl" sz="1500" spc="-1" strike="noStrike">
                <a:solidFill>
                  <a:srgbClr val="000000"/>
                </a:solidFill>
                <a:latin typeface="Arial Narrow"/>
              </a:rPr>
              <a:t>y presupuestación</a:t>
            </a: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733320"/>
            <a:ext cx="2438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Narrow"/>
              </a:rPr>
              <a:t>Comprender los formatos 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 Narrow"/>
              </a:rPr>
              <a:t>de presupuestos y las herramientas para análisis 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 Narrow"/>
              </a:rPr>
              <a:t>de presupue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685800"/>
            <a:ext cx="2438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 Narrow"/>
              </a:rPr>
              <a:t>Herramientas, Datos,</a:t>
            </a:r>
            <a:br>
              <a:rPr sz="1500"/>
            </a:br>
            <a:r>
              <a:rPr b="0" lang="es-ES_tradnl" sz="1500" spc="-1" strike="noStrike">
                <a:solidFill>
                  <a:srgbClr val="000000"/>
                </a:solidFill>
                <a:latin typeface="Arial Narrow"/>
              </a:rPr>
              <a:t>redes, capacidad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15200" y="3378240"/>
            <a:ext cx="15397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 Narrow"/>
              </a:rPr>
              <a:t>Incidencia y </a:t>
            </a:r>
            <a:br>
              <a:rPr sz="1500"/>
            </a:br>
            <a:r>
              <a:rPr b="0" lang="es-ES_tradnl" sz="1500" spc="-1" strike="noStrike">
                <a:solidFill>
                  <a:srgbClr val="000000"/>
                </a:solidFill>
                <a:latin typeface="Arial Narrow"/>
              </a:rPr>
              <a:t>participación</a:t>
            </a: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75240" y="5487840"/>
            <a:ext cx="1828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 Narrow"/>
              </a:rPr>
              <a:t>Capacidad de análisis </a:t>
            </a:r>
            <a:br>
              <a:rPr sz="1500"/>
            </a:br>
            <a:r>
              <a:rPr b="0" lang="es-ES_tradnl" sz="1500" spc="-1" strike="noStrike">
                <a:solidFill>
                  <a:srgbClr val="000000"/>
                </a:solidFill>
                <a:latin typeface="Arial Narrow"/>
              </a:rPr>
              <a:t>de géner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828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ÁREA DE LA BRECHA DE GÉN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10080" y="472428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CAMBIO DE LA POLÍ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3244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Destrezas necesarias para el PS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16:23:58Z</dcterms:created>
  <dc:creator>Meli</dc:creator>
  <dc:description/>
  <dc:language>en-US</dc:language>
  <cp:lastModifiedBy>Meli</cp:lastModifiedBy>
  <dcterms:modified xsi:type="dcterms:W3CDTF">2007-03-09T21:58:32Z</dcterms:modified>
  <cp:revision>11</cp:revision>
  <dc:subject/>
  <dc:title>PowerPoint Presentation</dc:title>
</cp:coreProperties>
</file>