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968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F979-EF46-46DE-B548-B758B8D678E0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HERRAMIENTAS PARA EL ANÁLISIS DE LOS P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018160"/>
            <a:ext cx="8686800" cy="45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estra el vínculo entre las asignaciones presupuestarias y cómo las y los miembros de la familia usan su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la electricidad versus la recolección de le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agua potable al domicilio versus cargar agua de otro 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servicios de cuidado infantil versus quedarse en casa cuidand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los niños/as sin tener ingr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transporte público versus tiempo usado para movilizarse d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tra man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comparar el valor calculado para el trabajo de cuidado no remunerado con los montos presupuest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valor del trabajo de cuidado en el hogar versus el costo del personal en hospitales y guard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hacer este análisis el gobierno o la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ÁLISIS DEL IMPACTO DEL PRESUPUESTO EN EL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SO D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2254680"/>
            <a:ext cx="8686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un análisis exacto y confiable, se requiere una encuesta de us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a encuesta grande de uso del tiempo es intensiva en recu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ualmente una ONG no puede hacer una encuesta grande de us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análisis de los datos del uso del tiempo requiere destrezas espe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feministas: la encuesta del uso del tiempo no nos dice nada que no sabíamos 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anti-feministas: los roles de género están muy bien, tal como est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ÁLISIS DEL IMPACTO DEL PRESUPUESTO EN EL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SO DEL TIEMP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MARCO DE POLÍTICA ECONÓMICA A MEDIANO PLAZO CON CONCIENCIA DE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926000"/>
            <a:ext cx="8686800" cy="46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os interpret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rco = múltiples añ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ueden usar las mismas herramientas como para un presupuesto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orciona indicaciones de las tendencias generales planificadas par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próximos años, como por ejemplo el crecimiento / estancamiento de un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ctor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delo = “agregar el géne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gregar las variables existentes, como por ejemplo en la fuerz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gregar variables, como por ejemplo en el sector del trabajo de cuidad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remun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que tenga impacto, es ideal que lo haga 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2593440"/>
            <a:ext cx="693432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gregar la fuerza laboral es bastante sencillo; incluir el trabajo de cuidado no remunerado es más compl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ir el trabajo de cuidado no remunerado requiere datos sobre el uso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orporar el género al modelo es tan sólo el primer pa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ta analiz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ta incidencia sobre las implicaciones para las polít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muy poca experiencia internacional con 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250200" y="741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MARCO DE POLÍTICA ECONÓMICA A MEDIANO PLAZO CON CONCIENCIA DE GÉNER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2582640"/>
            <a:ext cx="868680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del gobierno para lograr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be hacerse en forma regular (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hace el gobierno y la utilizan el parlamento y la sociedad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en forma de un discurso o en formato tabula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 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más fácil si está en formato de presupuestación por program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 en base al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combinarse con algunas de las otras herramie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CLARACIÓN SOBRE EL PRESUPUESTO SENSIBLE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L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435400"/>
            <a:ext cx="8686800" cy="30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ta un organismo fuerte que imparte las instrucciones a las demás entidades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asegurar que éstas cum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/los funcionarios pueden carecer de las destrezas para el análisis de gén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eclaración puede ser publicitaria, contando tan sólo las buenas not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arlamento y la sociedad civil necesitan leerla y comentarla, porque si no los funcionarios pierden inter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que decidir si incluirla en documentos convencionales (oculta) o en document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separado (que no la tomarán en cuenta la gente que lee el presupuesto en el transcurso de su trabaj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CLARACIÓN SOBRE EL PRESUPUESTO SENSIBLE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L GÉNER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TECEDENTES: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TRES CATEGORÍAS DE RHONDA SHAR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752480"/>
            <a:ext cx="80773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rrolladas para uso en el Sur de Australia en los años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usaron como base para las declaraciones anuales de los organismos sobre 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énero en sus presupue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usaron para informar sobre los presupuestos formulados y ejecutados, n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formular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o el presupuesto se divide en tres categorías, las que totalizan el 100%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presupue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780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específicamente para muje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17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ignaciones para programas que se destinan explícitamente para mujeres y niñas, como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 un programa de salud femen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780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gualdad de oportunidades en la administración públ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17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ignaciones para funcionarios/as gubernamentales actuales o potenciales para promover una representación igual en cargos de decisión, pago y condiciones de servicio equitativos, por ejemplo, programas de acompañamiento y asesoría (mentoreo) a servidoras públ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780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gene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17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as las demás asignaciones analizadas para su impacto de gén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SAR LAS TRES CATEGORÍAS DE SHAR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46440"/>
            <a:ext cx="830592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166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Debería tratarse de “mujeres” o “género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166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tendencia de enfocarse en la primera categoría porque es la más fác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imera categoría es importante como discriminación positiva / a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firmativa, P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el peligro de enfocarse en las mi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dar una imagen engañosa (por ejemplo, el gasto en Pakistán para centro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ducativos para muje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166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as personas interpretan la segunda categoría como el porcentaje de sueld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beneficios que se pagan a las muje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importante porque un gran porcentaje de los presupuestos va para suel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importante en países con roles de género estrictos (por ejemplo médica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profesor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el peligro de enfocar la atención en las/los funcionarios gubernamentales, que son personas relativamente privilegiadas, antes que en la gente pobre en las comun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27636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rcos y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 AL PAQUETE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235404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Diane Elson fue encomendada por la Secretaría de la Mancomunidad Británica para desarrollar herramientas para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Se hizo en las etapas iniciales del desarrollo de los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Se desarrollaron en base a los enfoques existentes, adaptados par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l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l enfoque está en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análisis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antes que en el desarroll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del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No es necesario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usar todas estas herramientas para toda iniciativ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n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No son las únicas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herramientas dispon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ISTORIA DE LAS HERRAMIENTAS DE E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446200"/>
            <a:ext cx="86868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bablemente es la herramienta más comúnmente us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conveniente usarla hacia el comienzo de la iniciativa de PS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aprender cómo funcionan los presu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orciona material para la capacitación y conscien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ye el análisis cualitativo y cuantit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menudo lo utilizan los grupos de la sociedad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utilizado por el gobierno, por ejemplo para la CEDAW, o como en los casos de Marruecos y Francia para sus declaraciones sobre el presupuesto de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 POLÍTICA CON CONCIENC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2539440"/>
            <a:ext cx="670536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análisis suele tomar un enfoque de cinco 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a situación del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as políticas / programas dentro del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as asignaciones presupues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a prestac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os resultados / impactos / cambios en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sit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tras herramientas no abarcan todas las etapas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 POLÍTICA CON CONCIENC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 GÉNER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 POLÍTICA CON CONCIENC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 GÉNERO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176560"/>
            <a:ext cx="830592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ceso 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motivo de incidencia fu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alianzas con el gobierno mejoran el ac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pocas personas con experticia presupuestaria y sectorial y en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enfoque de 5 pasos excluye algunos aspecto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estiones institucionales (como el proceso del presupuesto, quién formula el presupuesto y cómo lo hace, flexibilidad en la toma de decisiones, especialmente con el gobierno lo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ol de las reglas formas versus las redes informales en la toma de deci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S/LOS BENEFICI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44720"/>
            <a:ext cx="87631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 a los beneficiarios/as de los servicios sobre su exper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utilizarlo el gobierno o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hacerse en diferentes esca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a clínica de salud en particular, ver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servicio en particular, ver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o el sector, ver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a la localidad, incluyendo todos los servi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usar diferentes méto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 de opinión versus encuestas de actitud versus debate en grup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sus entrev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agnóstico de beneficiarios/as con conciencia de géne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trevistar a beneficiarios y benefici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r sobre cuestiones relacionadas con el gén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S/LOS BENEFICIARIOS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049480"/>
            <a:ext cx="838188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ptar los criterios de la gente con menos 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blemas con analfabet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blemas con el temor de la repres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cidir entre la calidad y la ca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estionario corto con preguntas de respuestas sencillas para much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teracción abierta y detenida con poc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difícil cubrir más de un servicio a la v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ierde la mitad de la realidad si sólo se escucha a las/los beneficiarios/as y no a la gente que no es usu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 ¿cómo llegar a las personas que no son beneficiari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ÁLISIS DE INCIDENCIA DE LOS GASTOS PÚBLICOS, DESAGREGADO POR SEX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409840"/>
            <a:ext cx="8686800" cy="36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ima la distribución del presupuesto entre hombres y muje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diendo los costos unitarios de prestar un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ltiplicando el costo unitario por el número de unidades prestadas 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ombres / muj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¿cuántos gastos educa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Llegan a alumnos y alumnas a diferentes niveles de educ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Llegan a alumnos y alumnas para diferentes grupos de ingres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usarse para estimar el impacto de género de recorte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arios pro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ualmente lo hacen actores no gubern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04280"/>
            <a:ext cx="86868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difícil / imposible si no se puede desagregar por sexo el servicio prestado 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indivi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pende de la disponibilidad de datos, por ejemplo encuestas de hogares con preguntas apropiadas y costos un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quiere la capacidad de analizar conjuntos grandes de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ume que el costo unitario de prestación del servicio no difiere, por ejemplo entre urbano y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ume que la calidad del servicio es similar entre l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menos que se agreguen los ingresos u otro elemento, esta herramienta no nos dice más que la simple desagregación por sexo de los beneficiarios/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ÁLISIS DE INCIDENCIA DE LOS GASTOS PÚBLICOS, DESAGREGADO POR SEX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1:28:21Z</dcterms:created>
  <dc:creator>Meli</dc:creator>
  <dc:description/>
  <dc:language>en-US</dc:language>
  <cp:lastModifiedBy>Meli</cp:lastModifiedBy>
  <dcterms:modified xsi:type="dcterms:W3CDTF">2007-03-09T23:04:05Z</dcterms:modified>
  <cp:revision>76</cp:revision>
  <dc:subject/>
  <dc:title>PowerPoint Presentation</dc:title>
</cp:coreProperties>
</file>