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10FB-5021-486E-8E03-106A3EA323EA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STO FUERA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TRES ESTUDIOS DE C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123640"/>
            <a:ext cx="73152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09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lanifican tres estudios de caso para cada paí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A: administrado y financiado por 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B: financiado (en parte) por el gobierno pero administrado por una entidad no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C: sin financiamiento ni administración por 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09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zambique: no tiene ningún caso en la Categoría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otswana: la Categoría C recibe subvenciones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09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zambique: Las ONG’s que trabajan con el VIH/SIDA hicieron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opciones para usar los datos en la incid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2199600"/>
            <a:ext cx="868680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cuidado en el hogar y trabajos afines “subsidian” a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mujeres realizan trabajo sin pago o con pago insuficiente, que de otra manera el gobierno tendría que dar a alguien un sueldo completo para hac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alor mensual del cuidado hogareño = 270 Pula en Botswana, US$ 130 en Mozambique, Z$ 403.550 en Zimbab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subestimaciones son porque se usan como base las remuneraciones ba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los presupuestos y las p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Qué puede hacer el gobierno para aliviar la carga de este traba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Qué puede hacer el gobierno para reducir las desventajas impuestas por este trabajo en las personas que lo realiz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Y TRABAJO NO REMUN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3062520"/>
            <a:ext cx="601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SG, salud reproductiva y trabajo de cuidad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remun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udio de caso del cuidado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udio de caso del “Vaso de Le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S CON EL PAQUETE DE RECURS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187360"/>
            <a:ext cx="86868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= estimar la cantidad de dinero requ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n determinado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jecutar una determinada 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cos gobiernos determinan el costo total de sus políticas plane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 1: Grandes prom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 2: Presupuestos demasiado pequeños para una ejecu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ONG’s pue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imar el costo de servicios / políticas importantes para la igual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arar los costos calculados con las asignaciones presupues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cer incidencia por presupuestos mayores y mej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QUÉ LAS ONGS PODRÍAN REALIZAR LA ESTI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675880"/>
            <a:ext cx="7391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una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idado obstétrico de emergencia en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Órdenes de protección para la violencia contra mujeres en Sudá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trabajo sin remuneración / con pago in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idado en el hogar para VIH/SIDA en Botswana, Zimbabw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Mozamb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TRES 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124360"/>
            <a:ext cx="86868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oyecto de Fundar para abordar la Mortalidad Materna pretende reducir este ín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es más alto entre las mujeres pobres, indígenas y ru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vestigación previa e incid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levó a incrementos en los presupuestos para los programas de salud reprodu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esupuestos todavía son insuficientes en las áreas más afect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costos de prestar los cuidados obstétricos de emergencia se basaron en estimad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cios de fármacos y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embarazos previstos e índices de nat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ón de complicaciones obsté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llaz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costo de dar la atención obstétrica de emergencia todas las personas que la requieren es relativamente 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OBSTÉTRICO DE EMERGENCIA EN MÉ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2211120"/>
            <a:ext cx="853416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9: Nueva Ley mejorada para la Violencia Domé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Junio 1998: se organizó el Programa de Incidencia en Género (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sión de información para ONGs sobre cómo se asignan los presupues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ller donde las contrapartes acordaron que se necesitaba investigación sobr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ánto dinero se asigna para ejecutar la nueva 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investigación descubr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algún dinero fresco sí se asignó para capacitar a policías y funcionarios/as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cortes sobre la nueva 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algún dinero se asignó para publicidad y conscient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buena parte del dinero fue proporcionada por don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EY DE VIOLENCIA DOMÉSTICA EN SUDÁ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2256840"/>
            <a:ext cx="845820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1: El Centro para el Estudio de la Violencia y la Reconciliación (CSV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ó a policías cuánto asignaron para ejecutar el trabajo sobre la violenci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5: El CSVR calculó cuánto se requería para ejecutar la L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izo investigación en 9 distritos – urbanos y r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ó a funcionarios/as de las cortes y destacamentos de policía cuánto tiempo dedicaban a un caso 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ron el tiempo dedicado a cada caso por el sueldo perti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ron el total del monto monetario por caso por el número estimado de casos en 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va a trabajar más con el CSVR sobre las n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EY DE VIOLENCIA DOMÉSTICA EN SUDÁFRIC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696760"/>
            <a:ext cx="769608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335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uía: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or qué tiene que importarnos el trabajo de cuidado no remuner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12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señada como base para investigación e inc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en el cuidado hogar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 de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335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ómo prestar cuidado en el hogar sin que represente una carta insoportable e injusta sobre actoras/e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00680"/>
            <a:ext cx="868680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de la investi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s en tiempo y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pecialmente los “costos” del trabajo sin pago o con pago insu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s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que prestan los cuidados en proyectos de cuidado hogar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que prestan los cuidados en los hogares 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finir un proyecto de cuidados en el hog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visitas a los hogares que contienen a un apersona que vida con el 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servicios incluyen cuidados personales, quehaceres domésticos, cocina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2157480"/>
            <a:ext cx="868680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s múlti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1: Para el director/a del proyecto de cuidado en 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2: Para la persona responsable del cuidado en el hogar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3: 5 x visitantes a hogares. Incluye un di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4: 2 x hogares beneficiarios por cada visi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5: lineamientos para grupos focales (sólo se usa en Zimbab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6: datos para estimar el valor del trabajo del cuidado hogar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7: antecedentes sobre 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Meli</cp:lastModifiedBy>
  <dcterms:modified xsi:type="dcterms:W3CDTF">2007-03-09T23:08:50Z</dcterms:modified>
  <cp:revision>32</cp:revision>
  <dc:subject/>
  <dc:title>PowerPoint Presentation</dc:title>
</cp:coreProperties>
</file>