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05920" y="63244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C2E3-51FA-46CC-8ABC-339FCC1473F6}" type="slidenum">
              <a:rPr b="0" lang="en-US" sz="14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¿QUÉ ES UN PRESUPUES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397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LASIFICACIONES Y FORM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1532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LA ESTRUCTURA DE UN PRESUPUESTO DE LA </a:t>
            </a:r>
            <a:br>
              <a:rPr sz="2600"/>
            </a:b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VIDA REAL: DEPARTAMENTO DE SALUD DE LA </a:t>
            </a:r>
            <a:br>
              <a:rPr sz="2600"/>
            </a:b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PROVINCIA DE GAUTE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157480"/>
            <a:ext cx="8686800" cy="39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9960" indent="-171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orizonte estratégico y áreas centrales de polí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1268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Vis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1268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1268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unciones centrales del Depar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1268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rrollo de polí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1268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andato legisl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1268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bjetivos y metas estratégicos del Depar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visión del año financiero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irada hacia delante para el siguiente año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ontos recibidos y financ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tonces, análisis programa por program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2714400"/>
            <a:ext cx="701028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9960" indent="-171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cada progr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cripción del programa (propósito gene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bjetivos del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bjetivos de las polí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ifras de gastos para siete años, por sub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ifras económicas desagregadas, para siete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ductos principales y medidas de los servicios prestados (incluyendo las previsi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1532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LA ESTRUCTURA DE UN PRESUPUESTO DE LA </a:t>
            </a:r>
            <a:br>
              <a:rPr sz="2600"/>
            </a:b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VIDA REAL: DEPARTAMENTO DE SALUD DE LA </a:t>
            </a:r>
            <a:br>
              <a:rPr sz="2600"/>
            </a:b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PROVINCIA DE GAUTENG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LA ESTRUCTURA DE UN PRESUPUESTO DE LA VIDA REAL: EL MINISTERIO DE SALUD DE PAKISTÁ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209320"/>
            <a:ext cx="8686800" cy="38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spectos particulares (detalles particula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ormulación de la misión / p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10 puntos de la Política Nacional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ormulación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edidas actuales y previsiones para cinco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signaciones a mediano plazo por objetivos de la p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3 años, 8 de 10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lasificación funcional de los ga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9 categorías, 3 años, corriente versus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lasificación por objetos (económica) de los ga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10 categorías “principales”, 3 años, corriente versus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2232000"/>
            <a:ext cx="8686800" cy="39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lasificación cruzada de la clasificación por objetos versus fun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cada uno de los 3 años, separados entre corrientes y de desarrollo, con diferentes “nombres” para las funciones a comparación del cuadro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dicadores fundamentales de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operaciones corrientes y luego por programas (financiados por don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úmeros detallados para los gastos corrientes, la cuenta de ingresos por 3 divisiones para 3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lasificación fu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lasificación por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números detallados se resumen primero por divisiones, luego se desglosan para cada unidad de gasto (clasificación administra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LA ESTRUCTURA DE UN PRESUPUESTO DE LA VIDA REAL: EL MINISTERIO DE SALUD DE PAKISTÁN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3100680"/>
            <a:ext cx="86868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99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formatos de los presupuestos pueden ser complicados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y abrum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6280" indent="-16200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simplifican las cosas cuando se conoce el formato y las convenciones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el país en el cual se está trabaja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CONCLUS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26844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 48: ¿Cómo se ven los presupues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REFERENCIA AL PAQUETE DE RECU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2669760"/>
            <a:ext cx="8001000" cy="24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9960" indent="-171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 presupuesto es u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60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lan de lo que el gobierno piensa gastar en diferentes rubros / para diferentes fines durante el año venid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gunos formatos de presupuesto también nos dic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60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i el gobierno cumplió con sus planes en los años anteri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60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Qué piensa entregar o ya entregó el gobierno en término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o mone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¿QUÉ ES UN PRESUPUES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LOS DOCUMENTOS PRESUPUESTARIOS SON DIVE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7772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7760" indent="-1191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iferentes números y tipos de publicaciones de un país a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gunos componentes posib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iscurso sobre el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úmeros del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arrativa sobre la situación económica e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arrativa sobre las políticas y pres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gunos documentos pueden no presentarse junto a la pro forma presupuestaria que se plantea al parlamento, por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arco para políticas / presupuestos a mediano plazo (ANTES del presupues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formes anuales de los organismos del gobierno sobres sus prestaciones (DESPUÉS de terminar el año del presupues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odos los documentos tienen algún potencial para ayudar con el trabajo del PS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646720"/>
            <a:ext cx="8686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9960" indent="-171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maneras comunes de clasificar los egresos en un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supues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109440">
              <a:lnSpc>
                <a:spcPct val="100000"/>
              </a:lnSpc>
              <a:spcBef>
                <a:spcPts val="6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conó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109440">
              <a:lnSpc>
                <a:spcPct val="100000"/>
              </a:lnSpc>
              <a:spcBef>
                <a:spcPts val="6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dministr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109440">
              <a:lnSpc>
                <a:spcPct val="100000"/>
              </a:lnSpc>
              <a:spcBef>
                <a:spcPts val="6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109440">
              <a:lnSpc>
                <a:spcPct val="100000"/>
              </a:lnSpc>
              <a:spcBef>
                <a:spcPts val="6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gram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uchos gobiernos presentan su presupuesto en más de una for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CLASIFICACIONES COMUNES PARA LOS NÚM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CLASIFICACIÓN ECONÓM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930320"/>
            <a:ext cx="815328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7760" indent="-119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 principales categorías de gas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094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rrientes = gastos para servicios y bienes que probablemente durarán menos de un año y que son necesarios para realizar las operaciones del 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06400" indent="-10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ueldos de empleados/as del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06400" indent="-10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ubsidios a empresas, hogares e individu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06400" indent="-10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astos en operaciones y manten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09440">
              <a:lnSpc>
                <a:spcPct val="100000"/>
              </a:lnSpc>
              <a:spcBef>
                <a:spcPts val="675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capital = gastos para bienes y servicios que se usarán durante más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un 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06400" indent="-10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astos en asistencia técnica y capaci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06400" indent="-10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astos en terrenos, edificios, infraestructura, equi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09440">
              <a:lnSpc>
                <a:spcPct val="100000"/>
              </a:lnSpc>
              <a:spcBef>
                <a:spcPts val="675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sible tercera categoría = transferencias y subsi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06400" indent="-10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ransferencias en montos únicos para que la entidad beneficiaria se encargue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los ga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clasificación por objetos es una clasificación económica más detall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876400"/>
            <a:ext cx="7315200" cy="17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astos clasificados bajo el organismo respon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7720" indent="-1094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según ministerios o depart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7720" indent="-1094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según los hospitales y clí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ta clasificación usualmente se emplea en combinación con otra clas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CLASIFICACIÓN ADMINISTRA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CLASIFICACIÓN FUN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468520"/>
            <a:ext cx="670572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99960" indent="-171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astos agrupados según la función / propósito que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motiv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guna similitud entre las clasificaciones administrativa y funcional, pero no son igu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3200" indent="-1080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el Ministerio de Defensa puede gastar dinero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 servicios médicos para su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05040" indent="-117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lasificación funcional =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5040" indent="-117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lasificación administrativa = Ministerio de Def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2599920"/>
            <a:ext cx="8686800" cy="30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9960" indent="-171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grama =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4640" indent="-109440">
              <a:lnSpc>
                <a:spcPct val="100000"/>
              </a:lnSpc>
              <a:spcBef>
                <a:spcPts val="6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njunto de actividades que el gobierno realiza para alcanzar un objetivo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uele utilizarse conjuntamente con la clasificación administrativa (el presupuesto de cada organismo se divide en progra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 veces los programas se dividen, a su vez, en subprogramas o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yectos, cada uno con su propio presupue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complica cuando la estructura del gobierno no se organiza según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us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CLASIFICACIÓN PROGRAMÁ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¿CUÁNTOS PRESUPUEST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828800"/>
            <a:ext cx="9144000" cy="46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99960" indent="-16668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 algunos países, se divide el presupuesto en dos par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8000">
              <a:lnSpc>
                <a:spcPct val="100000"/>
              </a:lnSpc>
              <a:spcBef>
                <a:spcPts val="6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presupuesto recurrente, operativo, o “de ingreso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11268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ubre principalmente los gastos ope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8000">
              <a:lnSpc>
                <a:spcPct val="100000"/>
              </a:lnSpc>
              <a:spcBef>
                <a:spcPts val="6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presupuesto de desarrollo o 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11268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destina a cubrir los gastos a más largo pl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11268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uele utilizarse principalmente para reflejar la parte donante del presupuesto y el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inanciamiento requerido de contra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11268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cluye los gastos operativos para los “proyectos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66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división entre presupuestos operativo y de desarrollo pue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8000">
              <a:lnSpc>
                <a:spcPct val="100000"/>
              </a:lnSpc>
              <a:spcBef>
                <a:spcPts val="6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cultar las implicaciones de un presupuesto para el o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11268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la nueva clínica necesitará personal y medic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8000">
              <a:lnSpc>
                <a:spcPct val="100000"/>
              </a:lnSpc>
              <a:spcBef>
                <a:spcPts val="6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mplica dividir las responsa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11268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Comisión de Planificación estará a mando del presupuesto de desarrollo y el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inisterio de Finanzas para el presupuesto recurrente.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0:06:19Z</dcterms:created>
  <dc:creator>Meli</dc:creator>
  <dc:description/>
  <dc:language>en-US</dc:language>
  <cp:lastModifiedBy>Meli</cp:lastModifiedBy>
  <dcterms:modified xsi:type="dcterms:W3CDTF">2007-03-09T23:03:56Z</dcterms:modified>
  <cp:revision>58</cp:revision>
  <dc:subject/>
  <dc:title>PowerPoint Presentation</dc:title>
</cp:coreProperties>
</file>