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381880" y="632448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5D59E-2581-40BA-948B-0CB40037D384}" type="slidenum">
              <a:rPr b="0" lang="en-US" sz="1600" spc="-1" strike="noStrike">
                <a:solidFill>
                  <a:srgbClr val="f08138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0" y="2895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TRANSFORMACIÓN DE PLANES Y POLÍ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3397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¿CÓMO PUEDEN AYUDAR LOS PS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7240" y="1531440"/>
            <a:ext cx="73137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EJEMPLOS DE INDICADORES EN LA PRESUPUESTACIÓN EN BASE AL DESEMPEÑO PARA EL DESARROLLO EN MATERIA DE POBLACIÓN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87280" y="1689120"/>
            <a:ext cx="8534520" cy="49402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575080" y="1981080"/>
            <a:ext cx="350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OBJETIVOS DE POLÍ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4400" y="2819520"/>
            <a:ext cx="2590200" cy="10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Indicadores de Insum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Arial Narrow"/>
              </a:rPr>
              <a:t>Presupuesto, equipos, puestos de </a:t>
            </a:r>
            <a:br>
              <a:rPr sz="1500"/>
            </a:br>
            <a:r>
              <a:rPr b="0" lang="es-ES_tradnl" sz="1500" spc="-1" strike="noStrike">
                <a:solidFill>
                  <a:srgbClr val="ffffff"/>
                </a:solidFill>
                <a:latin typeface="Arial Narrow"/>
              </a:rPr>
              <a:t>servicios,empleados/as, logística, </a:t>
            </a:r>
            <a:br>
              <a:rPr sz="1500"/>
            </a:br>
            <a:r>
              <a:rPr b="0" lang="es-ES_tradnl" sz="1500" spc="-1" strike="noStrike">
                <a:solidFill>
                  <a:srgbClr val="ffffff"/>
                </a:solidFill>
                <a:latin typeface="Arial Narrow"/>
              </a:rPr>
              <a:t>edificios, etc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874840" y="2895480"/>
            <a:ext cx="266040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Indicadores de Proceso</a:t>
            </a:r>
            <a:br>
              <a:rPr sz="1600"/>
            </a:br>
            <a:r>
              <a:rPr b="0" lang="es-ES_tradnl" sz="1500" spc="-1" strike="noStrike">
                <a:solidFill>
                  <a:srgbClr val="ffffff"/>
                </a:solidFill>
                <a:latin typeface="Arial Narrow"/>
              </a:rPr>
              <a:t>Capacitación, desarrollo de RRHH, </a:t>
            </a:r>
            <a:br>
              <a:rPr sz="1500"/>
            </a:br>
            <a:r>
              <a:rPr b="0" lang="es-ES_tradnl" sz="1500" spc="-1" strike="noStrike">
                <a:solidFill>
                  <a:srgbClr val="ffffff"/>
                </a:solidFill>
                <a:latin typeface="Arial Narrow"/>
              </a:rPr>
              <a:t>monitoreo / supervisió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4024440"/>
            <a:ext cx="2971800" cy="10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Indicadores de Productos</a:t>
            </a:r>
            <a:br>
              <a:rPr sz="1600"/>
            </a:br>
            <a:r>
              <a:rPr b="0" lang="es-ES_tradnl" sz="1500" spc="-1" strike="noStrike">
                <a:solidFill>
                  <a:srgbClr val="ffffff"/>
                </a:solidFill>
                <a:latin typeface="Arial Narrow"/>
              </a:rPr>
              <a:t>Desempeño, usuarias/os </a:t>
            </a:r>
            <a:br>
              <a:rPr sz="1500"/>
            </a:br>
            <a:r>
              <a:rPr b="0" lang="es-ES_tradnl" sz="1500" spc="-1" strike="noStrike">
                <a:solidFill>
                  <a:srgbClr val="ffffff"/>
                </a:solidFill>
                <a:latin typeface="Arial Narrow"/>
              </a:rPr>
              <a:t>de anticonceptivos, </a:t>
            </a:r>
            <a:br>
              <a:rPr sz="1500"/>
            </a:br>
            <a:r>
              <a:rPr b="0" lang="es-ES_tradnl" sz="1500" spc="-1" strike="noStrike">
                <a:solidFill>
                  <a:srgbClr val="ffffff"/>
                </a:solidFill>
                <a:latin typeface="Arial Narrow"/>
              </a:rPr>
              <a:t>años/pareja de protecció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44600" y="5514840"/>
            <a:ext cx="3429000" cy="12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Indicadores de Resul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Índice de prevalencia del uso de anticonceptivos, Fertilidad total, Ritmo de crecimiento poblacion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28600" y="2150640"/>
            <a:ext cx="8686800" cy="40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99960" indent="-171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l examinar los formatos de los presupuestos, vemos 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36480" indent="-122040">
              <a:lnSpc>
                <a:spcPct val="100000"/>
              </a:lnSpc>
              <a:spcBef>
                <a:spcPts val="499"/>
              </a:spcBef>
              <a:buClr>
                <a:srgbClr val="f08138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os presupuestos en base al desempeño tienen muchas diferentes for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36480" indent="-122040">
              <a:lnSpc>
                <a:spcPct val="100000"/>
              </a:lnSpc>
              <a:spcBef>
                <a:spcPts val="499"/>
              </a:spcBef>
              <a:buClr>
                <a:srgbClr val="f08138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a presupuestación en base al desempeño funciona mejor cuando se haga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on presupuestos organizados por progra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99960" indent="-171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os objetivos de presupuestación en base al desempeño deben vincularse con el plan general de desarrollo del gobier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36480" indent="-122040">
              <a:lnSpc>
                <a:spcPct val="100000"/>
              </a:lnSpc>
              <a:spcBef>
                <a:spcPts val="499"/>
              </a:spcBef>
              <a:buClr>
                <a:srgbClr val="f08138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as iniciativas de PSG necesitan tomar en cuenta el desarrollo más general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e la planificación y las polít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36480" indent="-122040">
              <a:lnSpc>
                <a:spcPct val="100000"/>
              </a:lnSpc>
              <a:spcBef>
                <a:spcPts val="499"/>
              </a:spcBef>
              <a:buClr>
                <a:srgbClr val="f08138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as iniciativas de PSG necesitan priorizar cuáles aspectos abordan, para no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er abruma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36480" indent="-122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ALGUNAS IDEAS FIN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04920" y="2514240"/>
            <a:ext cx="868680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452520" indent="-174600">
              <a:lnSpc>
                <a:spcPct val="100000"/>
              </a:lnSpc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 50: Formulación de Presupue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2520" indent="-174600">
              <a:lnSpc>
                <a:spcPct val="100000"/>
              </a:lnSpc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 58: Guía mexicana para formular los presupuestos en el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ector de la sal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REFERENCIAS AL PAQUETE DE 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1848600"/>
            <a:ext cx="8686800" cy="46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Investiga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Usualmente fuera del gobierno, como base para la incidencia, pero también es posible que el gobierno haga investigación para dar los insumos a sus políticas y presupues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Incidenc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Usualmente fuera del gobierno, pero PUEDE ser dentro del gobierno y del parl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7760" indent="-119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Monitore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09440">
              <a:lnSpc>
                <a:spcPct val="100000"/>
              </a:lnSpc>
              <a:spcBef>
                <a:spcPts val="400"/>
              </a:spcBef>
              <a:buClr>
                <a:srgbClr val="e68219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Rol clave del </a:t>
            </a:r>
            <a:r>
              <a:rPr b="0" i="1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arla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09440">
              <a:lnSpc>
                <a:spcPct val="100000"/>
              </a:lnSpc>
              <a:spcBef>
                <a:spcPts val="400"/>
              </a:spcBef>
              <a:buClr>
                <a:srgbClr val="e68219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l gobierno </a:t>
            </a: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ebe hacer monitoreo como parte de la función geren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09440">
              <a:lnSpc>
                <a:spcPct val="100000"/>
              </a:lnSpc>
              <a:spcBef>
                <a:spcPts val="400"/>
              </a:spcBef>
              <a:buClr>
                <a:srgbClr val="e68219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a sociedad civil </a:t>
            </a: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uede hacer monitoreo de la ejecución del presupues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7760" indent="-119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apacita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09440">
              <a:lnSpc>
                <a:spcPct val="100000"/>
              </a:lnSpc>
              <a:spcBef>
                <a:spcPts val="400"/>
              </a:spcBef>
              <a:buClr>
                <a:srgbClr val="f08138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¿Para quiénes? ¿Por quiénes? ¿Para lograr qué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7760" indent="-119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onscientiza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09440">
              <a:lnSpc>
                <a:spcPct val="100000"/>
              </a:lnSpc>
              <a:spcBef>
                <a:spcPts val="400"/>
              </a:spcBef>
              <a:buClr>
                <a:srgbClr val="f08138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¿Para quiénes? ¿Por quiénes? ¿Para lograr qué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7760" indent="-119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nálisis y diseño de polític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09440">
              <a:lnSpc>
                <a:spcPct val="100000"/>
              </a:lnSpc>
              <a:spcBef>
                <a:spcPts val="400"/>
              </a:spcBef>
              <a:buClr>
                <a:srgbClr val="f08138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Éste es el rol del gobierno, pero pueden participar otros actores/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31376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ACTIVIDADES COMUNES DE PS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7240" y="658440"/>
            <a:ext cx="73137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5 PASOS PARA EL ANÁLISIS DE GÉNERO CON </a:t>
            </a:r>
            <a:br>
              <a:rPr sz="2600"/>
            </a:b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LOS PRESUPUES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1763640"/>
            <a:ext cx="838188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47760" indent="-119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escribir la </a:t>
            </a: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ituación 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e mujeres y hombres, niñas y ni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7760" indent="-119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Verificar si la </a:t>
            </a: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olítica es sensible al género 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(si aborda la situación descrita en el paso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7760" indent="-119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Verificar que </a:t>
            </a: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e asigne un presupuesto adecuado 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ara ejecutar la política sensible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l gén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7760" indent="-119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Verificar si el </a:t>
            </a: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gasto se concreta 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egún lo planifi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7760" indent="-119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xaminar el </a:t>
            </a: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impacto 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e la política y el gasto (si ha logrado efectivamente promover la equidad de géne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7760" indent="-1191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Buena parte de estos pasos son conocidos para la gente que trabaja con la transversalización del gén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7760" indent="-119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l valor agregado es la inclusión de preguntas relacionadas con el presupu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7760" indent="-119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one énfasis en que la situación impulsa a la política que, a su vez, impulsa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l presupues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7760" indent="-1191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os 5 pasos pueden ser utiliz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74560" indent="-112680">
              <a:lnSpc>
                <a:spcPct val="100000"/>
              </a:lnSpc>
              <a:spcBef>
                <a:spcPts val="400"/>
              </a:spcBef>
              <a:buClr>
                <a:srgbClr val="f08138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or las personas fuera del gobierno para evaluar la acción del gobier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574560" indent="-112680">
              <a:lnSpc>
                <a:spcPct val="100000"/>
              </a:lnSpc>
              <a:spcBef>
                <a:spcPts val="400"/>
              </a:spcBef>
              <a:buClr>
                <a:srgbClr val="f08138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or el gobierno para planificación, ejecución y monitoreo y evaluación (My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574560" indent="-112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2499840"/>
            <a:ext cx="8686800" cy="31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99960" indent="-171360">
              <a:lnSpc>
                <a:spcPct val="100000"/>
              </a:lnSpc>
              <a:spcAft>
                <a:spcPts val="624"/>
              </a:spcAft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Mejora la eficiencia</a:t>
            </a: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 asegurando que los gastos beneficien a quienes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más lo necesi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99960" indent="-171360">
              <a:lnSpc>
                <a:spcPct val="100000"/>
              </a:lnSpc>
              <a:spcAft>
                <a:spcPts val="624"/>
              </a:spcAft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Mejora el monitoreo</a:t>
            </a: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 al saber a quiénes están llegando los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ervicios gubernament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99960" indent="-171360">
              <a:lnSpc>
                <a:spcPct val="100000"/>
              </a:lnSpc>
              <a:spcAft>
                <a:spcPts val="624"/>
              </a:spcAft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Hace seguimiento a la ejecución </a:t>
            </a: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y reduce la corrup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99960" indent="-171360">
              <a:lnSpc>
                <a:spcPct val="100000"/>
              </a:lnSpc>
              <a:spcAft>
                <a:spcPts val="624"/>
              </a:spcAft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Mejora la transparencia y rendición de cuen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99960" indent="-171360">
              <a:lnSpc>
                <a:spcPct val="100000"/>
              </a:lnSpc>
              <a:spcAft>
                <a:spcPts val="624"/>
              </a:spcAft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Informa sobre el progreso </a:t>
            </a: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ogrado en los compromisos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nacionales e internacionales en materia del gén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999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BENEFICIOS DEL TRABAJO CON PSG PARA EL GOBIER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692760" y="7380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USOS DEL PSG PARA EL GOBIER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905120" y="2084400"/>
            <a:ext cx="4800600" cy="4098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76720" y="3564000"/>
            <a:ext cx="1828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PRESUPUESTO SENSIBLE 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GÉN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6840" y="6259680"/>
            <a:ext cx="182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Manejar la Ejecu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63880" y="1752480"/>
            <a:ext cx="85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Prioriz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55840" y="2525760"/>
            <a:ext cx="82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Evaluar </a:t>
            </a:r>
            <a:br>
              <a:rPr sz="1600"/>
            </a:b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impac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63800" y="3809880"/>
            <a:ext cx="76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Audit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21400" y="4952880"/>
            <a:ext cx="1123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Monitoreo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Evalu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264720" y="2362320"/>
            <a:ext cx="100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Promover </a:t>
            </a:r>
            <a:br>
              <a:rPr sz="1600"/>
            </a:b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igual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29120" y="3841920"/>
            <a:ext cx="92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Planific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92360" y="4889520"/>
            <a:ext cx="1672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Utilizar el plen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potencial de los </a:t>
            </a:r>
            <a:br>
              <a:rPr sz="1600"/>
            </a:b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recursos huma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62040"/>
            <a:ext cx="731376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GUÍA MEXICANA PARA LA FORMULACIÓN DEL PRESUPUESTO EN EL SECTOR DE LA SALU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1924200"/>
            <a:ext cx="8686800" cy="47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47760" indent="-119160">
              <a:lnSpc>
                <a:spcPct val="100000"/>
              </a:lnSpc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a guía fue desarrollada como esfuerzo conjunto p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88960" indent="-127080">
              <a:lnSpc>
                <a:spcPct val="100000"/>
              </a:lnSpc>
              <a:buClr>
                <a:srgbClr val="f08138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l Ministerio de Salu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588960" indent="-127080">
              <a:lnSpc>
                <a:spcPct val="100000"/>
              </a:lnSpc>
              <a:buClr>
                <a:srgbClr val="f08138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2 ONG’s – una de análisis presupuestario y una de derechos de la muj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7760" indent="-11916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Finalidad: Ayudar a planificadores/as del gobierno a diseñar políticas y presupuestos sensibles al gén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7760" indent="-11916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Introducción: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88960" indent="-127080">
              <a:lnSpc>
                <a:spcPct val="100000"/>
              </a:lnSpc>
              <a:buClr>
                <a:srgbClr val="f08138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l PSG </a:t>
            </a:r>
            <a:r>
              <a:rPr b="0" i="1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no</a:t>
            </a: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 es cuestión de cuánto dinero se gaste en servicios para las muje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588960" indent="-127080">
              <a:lnSpc>
                <a:spcPct val="100000"/>
              </a:lnSpc>
              <a:buClr>
                <a:srgbClr val="f08138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l PSG se trata de asignar dinero para actividades que eliminen las barreras de género contra (principalmente) las mujeres y (en algunos casos) los hombres, en su acceso para los servicios 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e salu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7760" indent="-11916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eis pasos para formular presupuestos sensibles al géner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88960" indent="-127080">
              <a:lnSpc>
                <a:spcPct val="100000"/>
              </a:lnSpc>
              <a:buClr>
                <a:srgbClr val="f08138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iagnóstico 1: Revisar el diagnóstico usando una perspectiva de igualdad de gén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588960" indent="-127080">
              <a:lnSpc>
                <a:spcPct val="100000"/>
              </a:lnSpc>
              <a:buClr>
                <a:srgbClr val="f08138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iagnóstico 2: Analizar las igualdades de gén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588960" indent="-127080">
              <a:lnSpc>
                <a:spcPct val="100000"/>
              </a:lnSpc>
              <a:buClr>
                <a:srgbClr val="f08138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rogramación 1: Determinar los componentes y ac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588960" indent="-127080">
              <a:lnSpc>
                <a:spcPct val="100000"/>
              </a:lnSpc>
              <a:buClr>
                <a:srgbClr val="f08138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rogramación 2: Determinar las prior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588960" indent="-127080">
              <a:lnSpc>
                <a:spcPct val="100000"/>
              </a:lnSpc>
              <a:buClr>
                <a:srgbClr val="f08138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resupuestación 1: Asignar recursos para abordar las desigualdades de gén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588960" indent="-127080">
              <a:lnSpc>
                <a:spcPct val="100000"/>
              </a:lnSpc>
              <a:buClr>
                <a:srgbClr val="f08138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resupuestación 2: Diseñar los indica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588960" indent="-127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4920" y="2047680"/>
            <a:ext cx="8686800" cy="42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47760" indent="-119160">
              <a:lnSpc>
                <a:spcPct val="100000"/>
              </a:lnSpc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3 categorías coinciden con los tres primeros pasos del enfoque de 5 pa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74560" indent="-112680">
              <a:lnSpc>
                <a:spcPct val="100000"/>
              </a:lnSpc>
              <a:spcBef>
                <a:spcPts val="201"/>
              </a:spcBef>
              <a:buClr>
                <a:srgbClr val="f08138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e expresan más claramente como acciones que tienen que tomar las/los funcionarios gubernamentales al formular los presupues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7760" indent="-11916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a guía pone énfasis en priorizar las estrategias / acciones que tengan el mayor impacto en la igualdad de gén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74560" indent="-112680">
              <a:lnSpc>
                <a:spcPct val="100000"/>
              </a:lnSpc>
              <a:spcBef>
                <a:spcPts val="201"/>
              </a:spcBef>
              <a:buClr>
                <a:srgbClr val="f08138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No se trata </a:t>
            </a: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(usualmente) de cambiar completamente los programas exist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574560" indent="-112680">
              <a:lnSpc>
                <a:spcPct val="100000"/>
              </a:lnSpc>
              <a:buClr>
                <a:srgbClr val="f08138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e trata de incorporar progresivamente los criterios de igualdad de género dentro 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e cada pa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7760" indent="-11916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reguntas para ayudar a incorporar el géner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74560" indent="-112680">
              <a:lnSpc>
                <a:spcPct val="100000"/>
              </a:lnSpc>
              <a:spcBef>
                <a:spcPts val="201"/>
              </a:spcBef>
              <a:buClr>
                <a:srgbClr val="f08138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¿En cuáles de los encabezamientos existentes pueden incluirse fondos para acciones hacia la igualdad de géner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574560" indent="-112680">
              <a:lnSpc>
                <a:spcPct val="100000"/>
              </a:lnSpc>
              <a:buClr>
                <a:srgbClr val="f08138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¿En cuáles de los componentes existentes pueden incluirse nuevos encabezamientos 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(o subprogramas)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574560" indent="-112680">
              <a:lnSpc>
                <a:spcPct val="100000"/>
              </a:lnSpc>
              <a:buClr>
                <a:srgbClr val="f08138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¿Es necesario asignar recursos para crear nuevos o mejores dato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574560" indent="-112680">
              <a:lnSpc>
                <a:spcPct val="100000"/>
              </a:lnSpc>
              <a:buClr>
                <a:srgbClr val="f08138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¿Deben dedicarse recursos a grupos específicos para abordar sus 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necesidades específica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62040"/>
            <a:ext cx="731376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GUÍA MEXICANA PARA LA FORMULACIÓN DEL PRESUPUESTO EN EL SECTOR DE LA SALU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87280" y="2000880"/>
            <a:ext cx="8686800" cy="46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47760" indent="-119160">
              <a:lnSpc>
                <a:spcPct val="100000"/>
              </a:lnSpc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a presupuestación en base al desempeño dice que el presupues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88960" indent="-127080">
              <a:lnSpc>
                <a:spcPct val="100000"/>
              </a:lnSpc>
              <a:spcBef>
                <a:spcPts val="201"/>
              </a:spcBef>
              <a:buClr>
                <a:srgbClr val="f08138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No sólo es cuestión de contabilidad financie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588960" indent="-127080">
              <a:lnSpc>
                <a:spcPct val="100000"/>
              </a:lnSpc>
              <a:buClr>
                <a:srgbClr val="f08138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ebe alinear el </a:t>
            </a:r>
            <a:r>
              <a:rPr b="1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inero </a:t>
            </a: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on las </a:t>
            </a:r>
            <a:r>
              <a:rPr b="1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olíticas </a:t>
            </a: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y con los </a:t>
            </a:r>
            <a:r>
              <a:rPr b="1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objetivos generales </a:t>
            </a: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el gobierno (incluyendo la igualdad de géner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7760" indent="-11916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a circular presupuestaria en el sistema en base al desempeño usualmente di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88960" indent="-127080">
              <a:lnSpc>
                <a:spcPct val="100000"/>
              </a:lnSpc>
              <a:spcBef>
                <a:spcPts val="201"/>
              </a:spcBef>
              <a:buClr>
                <a:srgbClr val="f08138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os organismos deben informar sobre su </a:t>
            </a:r>
            <a:r>
              <a:rPr b="1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misión, objetivos, cuestiones estratégicas, metas, niveles proyectados de desempeño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7760" indent="-11916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a presupuestación en base al desempeño tiene el mismo marco como el enfoque </a:t>
            </a:r>
            <a:br>
              <a:rPr sz="1800"/>
            </a:b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e 5 pa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88960" indent="-127080">
              <a:lnSpc>
                <a:spcPct val="100000"/>
              </a:lnSpc>
              <a:spcBef>
                <a:spcPts val="201"/>
              </a:spcBef>
              <a:buClr>
                <a:srgbClr val="f08138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ero el PSG agrega la </a:t>
            </a:r>
            <a:r>
              <a:rPr b="0" i="1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quidad </a:t>
            </a: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 las tres Es tradicionales de Economía, Eficiencia y Efica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7760" indent="-119160">
              <a:lnSpc>
                <a:spcPct val="100000"/>
              </a:lnSpc>
              <a:spcBef>
                <a:spcPts val="675"/>
              </a:spcBef>
              <a:buClr>
                <a:srgbClr val="f08138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Incorporar el género en los presupuestos en base al desempeñ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88960" indent="-127080">
              <a:lnSpc>
                <a:spcPct val="100000"/>
              </a:lnSpc>
              <a:spcBef>
                <a:spcPts val="201"/>
              </a:spcBef>
              <a:buClr>
                <a:srgbClr val="f08138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as cuestiones de género pueden reflejarse explícitamente o implícitamente en 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os objetiv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588960" indent="-127080">
              <a:lnSpc>
                <a:spcPct val="100000"/>
              </a:lnSpc>
              <a:buClr>
                <a:srgbClr val="f08138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l género puede reflejarse explícitamente al </a:t>
            </a:r>
            <a:r>
              <a:rPr b="0" i="1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esagregar los objetivos e indicado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588960" indent="-127080">
              <a:lnSpc>
                <a:spcPct val="100000"/>
              </a:lnSpc>
              <a:buClr>
                <a:srgbClr val="f08138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l género puede reflejarse incluyendo </a:t>
            </a:r>
            <a:r>
              <a:rPr b="0" i="1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objetivos e indicadores enfocados en cuestiones relacionadas con el género</a:t>
            </a: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 (por ejemplo, la violencia contra las mujeres o fertilida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588960" indent="-127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PSG Y PRESUPUESTOS EN BASE AL DESEMPEÑ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58440"/>
            <a:ext cx="86868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LA PRESUPUESTACIÓN EN BASE AL DESEMPEÑO </a:t>
            </a:r>
            <a:br>
              <a:rPr sz="2600"/>
            </a:b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Y LAS TRES E’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39560" y="1981080"/>
            <a:ext cx="8212320" cy="44006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973080" y="1998720"/>
            <a:ext cx="129528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 Narrow"/>
              </a:rPr>
              <a:t>proporcionar atención para la salud que prevenga las enfermedades</a:t>
            </a: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660480" y="2146320"/>
            <a:ext cx="135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tr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infraestruc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equip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34120" y="1955880"/>
            <a:ext cx="167616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exámenes de tamizaje para detectar 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glaucoma (enfermedad ocular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86600" y="2106720"/>
            <a:ext cx="121932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reducción de la prevalencia de las enfermedades  ocul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971800" y="236232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66600" y="4100400"/>
            <a:ext cx="95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econom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415760" y="4100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eficie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57800" y="409716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efica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548640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costo del personal méd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114800" y="5486400"/>
            <a:ext cx="160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costo por examen de sele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791320" y="5442120"/>
            <a:ext cx="152388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índices de detección de glaucoma en la población destinata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3760" y="1676520"/>
            <a:ext cx="168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objetivo de polí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43080" y="1676520"/>
            <a:ext cx="73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fon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398760" y="1676520"/>
            <a:ext cx="86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insum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69880" y="1676520"/>
            <a:ext cx="99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produc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31200" y="1676520"/>
            <a:ext cx="102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resul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7848720" y="1828440"/>
            <a:ext cx="75960" cy="152280"/>
          </a:xfrm>
          <a:prstGeom prst="line">
            <a:avLst/>
          </a:prstGeom>
          <a:ln w="9360">
            <a:solidFill>
              <a:srgbClr val="f08138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88800" y="156852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nutri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3200" y="5638680"/>
            <a:ext cx="16891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indicadores de desempeñ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238880" y="5122800"/>
            <a:ext cx="190512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Figura 2.3 </a:t>
            </a:r>
            <a:br>
              <a:rPr sz="1200"/>
            </a:br>
            <a:r>
              <a:rPr b="0" lang="es-ES_tradnl" sz="1200" spc="-1" strike="noStrike">
                <a:solidFill>
                  <a:srgbClr val="000000"/>
                </a:solidFill>
                <a:latin typeface="Arial Narrow"/>
              </a:rPr>
              <a:t>La estructura básica de la aplicación de la presupuestación en base a los resultados y productos en un programa de salu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2T21:33:58Z</dcterms:created>
  <dc:creator>Meli</dc:creator>
  <dc:description/>
  <dc:language>en-US</dc:language>
  <cp:lastModifiedBy>Meli</cp:lastModifiedBy>
  <dcterms:modified xsi:type="dcterms:W3CDTF">2007-03-09T22:55:54Z</dcterms:modified>
  <cp:revision>84</cp:revision>
  <dc:subject/>
  <dc:title>PowerPoint Presentation</dc:title>
</cp:coreProperties>
</file>