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21A-CBBF-420E-B512-9082DDB70DBA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STO DE LOS OD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CON ENFOQUE EN DDHH Y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075400"/>
            <a:ext cx="868680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chos países ahora dicen que los ODM’s son su plan general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decimos que los presupuestos deben seguir los planes, entonces los ODMs se hacen importantes para el trabajo de los PS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varios diferentes estimados de los costos mundiales para los O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mundiales son útiles principalmente para informar a la ONU, donantes e IFIs de lo “adicional” que se requiere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están desarrollando estimado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una señal de que se estén tomando en serio los O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ferentes enfo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los ODM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otras categor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DE LOS ODM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821240"/>
            <a:ext cx="8686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mplia variabilidad en los estim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e Zedillo del Panel de Alto Nivel sobre el Financiamiento para el Desarrollo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$ 50 mil millones por año para alcanzar los objetivos para el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anco Mundi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Costo para donantes: US$ 35 – 76 mil millones por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tecedentes del PNUD para su Informe sobre el Desarrollo Humano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Objetivo 1 = US$ 76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YFF del FNU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del Banco Mundial son US$ 20-25 mil millones al año para los ODM’s relacionados con la salud, ver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lujos de recursos financieros internacionales en 2001 para ayuda relacionada con la población = US$ 2.500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nacionales son más útiles para el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drían ser más exactos, por una mejor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drán usarse en los debates sobre el presupuest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STIMACIONES MUND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33840"/>
            <a:ext cx="868680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“modelos” con hojas electrónicas de cálculo y guías para el usuario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visión en modelos no es lo mismo que división en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gua y sa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os cord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 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 materna y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IH/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0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 del PSG de Marrue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Cómo se abordan las interacciones trans-sectoriales / de múltiples objetiv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S PARA EL PROYECTO DEL MILEN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1863360"/>
            <a:ext cx="579132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de interve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en planificación fami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5 en cuidado prenatal y pa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 en complicaciones obsté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en otras condiciones mater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en neonatos/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5 en ITS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intervención, calc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por caso prome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beneficiarias potencial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total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l, fármacos y demás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cu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de instalaciones, equipos y otros gastos gene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2936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 PARA LA SALUD MATERN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922400"/>
            <a:ext cx="701028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sar el modelo, se necesitan 5 tipos de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mográ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mujeres en edad reprodu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epidemi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incidencia de complicaciones del embarazo y de las ITS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Índices actuales de cobertura de varios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ación sobre los fármacos y suministros reque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 costos relacionados con el personal, los fármacos y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más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rchivos / documentos proporcio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por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ase de datos para la herramienta del costeo con valores predeterminados (para 200 paí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Incluye la fuente y las suposici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rio para captar datos para el “costo tot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uía del usuario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S PARA LA SALUD MATERN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POR SEPARADO DE LA IGUALDAD 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752480"/>
            <a:ext cx="82296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a más allá del objetivo de género de los O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intervenciones específicas de género que se cubren en los diagnósticos de necesidades para otros “sector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palda la necesidad de tomar en cuenta el género en todos los obje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é el diagnóstico de las necesidades de género sobre lo que se necesitará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hacer operativos las políticas de género (como los planes nacion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mite costear los elementos no cubiertos en los diagnósticos de necesidades par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os sect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tende resaltar y respaldar las intervenciones de género, pero podría tener 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fecto contr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se ve el género como algo “adicional” que se deja fuera cuando son limitados los re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mej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egurar que se incluyan las intervenciones de género como parte de los modelos generales para cada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429280"/>
            <a:ext cx="8686800" cy="32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 las estrategias pro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por qué no hay condones femeni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 los indic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por qué el uso anticonceptivo sólo para mujeres casa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aminar los valores predeterminados para lo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tamos de acuerdo con los valores que describen la situ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tamos de acuerdo con los niveles propuestos para la remuneración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l – por ejemplo, médicos/as versus enfermeros/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Faltan algunas intervenciones relacionadas con el gén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deberían incluirse intervenciones para la violencia contra las muje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GUNAS OPORTUNIDADES PARA LOS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3246120"/>
            <a:ext cx="32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sto de los OD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Meli</cp:lastModifiedBy>
  <dcterms:modified xsi:type="dcterms:W3CDTF">2007-03-12T14:43:21Z</dcterms:modified>
  <cp:revision>36</cp:revision>
  <dc:subject/>
  <dc:title>PowerPoint Presentation</dc:title>
</cp:coreProperties>
</file>