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3208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DF7-5399-44E1-9922-EECADC01A53C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32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TILISER LA B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3062880"/>
            <a:ext cx="781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45252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rifier où et comment l’UNIFEM et l’UNFPA contribuent aux transitions des pays vers des budgets sensibles au 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BJECTI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880" y="1765440"/>
            <a:ext cx="838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OBJECTIF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Utiliser la BSG pour créer le changement dans une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zone donné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OUTIL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De quel type de preuves avez-vous besoin et quel outil de BSG vous serait utile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POINTS D'ENTREE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côté dépenses nationales, locales, générales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ou sectorielles, ou côté revenu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ANALYSE DES PARTIES PRENANTE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qui sont les acteurs, formateurs, initiateurs, défenseurs, experts clé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</a:rPr>
              <a:t>STRATEGIES :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 stratégies préférées et activités clés (par ex. renforcement de capacités, plaidoyer, partage des connaissances, etc.) et à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Arial Narrow"/>
              </a:rPr>
              <a:t>quelles fin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XERCICE DE PROGRAMM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76960"/>
            <a:ext cx="89154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1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ans un pays qui a récemment prononcé une loi contre la violence domes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2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mouvoir un nombre croissant d’utilisatrices de préservatif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as 3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pporter une solution au problème du taux élevé de mortalité maternelle dans une communauté spéc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012040"/>
            <a:ext cx="8915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6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Formez 3 groupes pour formuler un programme utilisant une perspective de BSG dans les 3 cas ci-dessous. Commencez par répondre aux questions identifiées dans la diapositive précé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21:27:00Z</dcterms:created>
  <dc:creator>Meli</dc:creator>
  <dc:description/>
  <dc:language>en-US</dc:language>
  <cp:lastModifiedBy>natalia  tomaszewska</cp:lastModifiedBy>
  <cp:lastPrinted>2007-03-06T18:29:17Z</cp:lastPrinted>
  <dcterms:modified xsi:type="dcterms:W3CDTF">2007-03-08T18:11:13Z</dcterms:modified>
  <cp:revision>19</cp:revision>
  <dc:subject/>
  <dc:title>PowerPoint Presentation</dc:title>
</cp:coreProperties>
</file>