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44920" y="63244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8518-10D1-42AD-BDB0-4FC56D3FCA16}" type="slidenum">
              <a:rPr b="0" lang="en-US" sz="16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Grande"/>
              </a:rPr>
              <a:t>COMPETENCES NECESSAIRES POUR LA BS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3397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WORKSHOP OBJECTIVES AND ROAD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81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BUDGÉTISATION SENSIBLE AU GENRE 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80" y="3301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Objectifs de l’atelier et feuille de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ETENCES NECESSAIRES POUR LA BS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3137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GUIDE PRATIQUE ET MANUEL DE FORMATION </a:t>
            </a:r>
            <a:br>
              <a:rPr sz="2600"/>
            </a:br>
            <a:r>
              <a:rPr b="1" lang="fr-FR" sz="2600" spc="-1" strike="noStrike">
                <a:solidFill>
                  <a:srgbClr val="ffffff"/>
                </a:solidFill>
                <a:latin typeface="Arial Narrow"/>
              </a:rPr>
              <a:t>sur BSG et santé en matière de reproduction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347560"/>
            <a:ext cx="78166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 lvl="2" marL="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Développer une compréhension de la BSG comme un outil de plaidoyer politique et un outil techn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Exposition à l’expérience d’autres p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Développer des compétences pour une programmation qui encourage le travail de BSG au niveau nation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ETENCES NECESSAIRES POUR LA BS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31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Arial Narrow"/>
              </a:rPr>
              <a:t>               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2175840"/>
            <a:ext cx="838224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0" bIns="0" anchor="ctr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dule 1 : Budgétisation sensible au genre : concepts, principes et objectif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dule 2 : Formats et processus budgétair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dule 3 : Outils pour l’analyse genre des budge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dule 4 : Initiatives de Budgétisation Sensible au Genre (IBG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dule 5 : Initiatives de Budgétisation Sensible au Genre émanant du gouvernement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 Narrow"/>
              </a:rPr>
              <a:t>Supporter le travail B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77800"/>
            <a:ext cx="518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OMPOSANTES DE L'ATELI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ETENCES NECESSAIRES POUR LA BS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0520" y="468360"/>
            <a:ext cx="8561520" cy="5919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57600" y="300024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Narrow"/>
              </a:rPr>
              <a:t>PROBLÈME DE GENRE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46160" y="445788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Narrow"/>
              </a:rPr>
              <a:t>ANALYSE &amp; IDENTIFICATION DEL'INTERVENTION NECESS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92320" y="227484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OINTS D'ENTRE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ARTENARI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654120"/>
            <a:ext cx="1828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Narrow"/>
              </a:rPr>
              <a:t>ANALY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 Narrow"/>
              </a:rPr>
              <a:t>DES BUDGETS DU POINT DE VUE DU GEN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R L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204480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 Narrow"/>
              </a:rPr>
              <a:t>INSTITUER DES MECANISMES POUR LA BSG DANS ET/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 Narrow"/>
              </a:rPr>
              <a:t>EN DEHORS DU GOUVER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51400" y="475308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HANGEMENT DE POLI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3751200"/>
            <a:ext cx="24382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Compréhension de la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planification stratégique e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 du processus budgé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084320"/>
            <a:ext cx="24386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Compréhension des formats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de budget et des outil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 d'analyse du 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15040" y="914400"/>
            <a:ext cx="24382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utils, Donn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é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s,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é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eaux, capacit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é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3657600"/>
            <a:ext cx="2438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laidoyer et particip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5627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apacités d'analyse du gen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ETENCES NECESSAIRES POUR LA BS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7:26:47Z</dcterms:created>
  <dc:creator>Meli</dc:creator>
  <dc:description/>
  <dc:language>en-US</dc:language>
  <cp:lastModifiedBy>natalia  tomaszewska</cp:lastModifiedBy>
  <dcterms:modified xsi:type="dcterms:W3CDTF">2007-03-07T22:51:09Z</dcterms:modified>
  <cp:revision>32</cp:revision>
  <dc:subject/>
  <dc:title>PowerPoint Presentation</dc:title>
</cp:coreProperties>
</file>