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381880" y="63244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13BE-228F-47D6-B5AE-2D2A3E031DA8}" type="slidenum">
              <a:rPr b="0" lang="en-US" sz="1600" spc="-1" strike="noStrike">
                <a:solidFill>
                  <a:srgbClr val="f08138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0" y="2895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 Narrow"/>
                <a:ea typeface="Arial"/>
              </a:rPr>
              <a:t>PLANIFICATION &amp; TRANSFORMATION DE LA POLI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3973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 Narrow"/>
                <a:ea typeface="Arial"/>
              </a:rPr>
              <a:t>QUELLE AIDE LA BSG PEUT-ELLE APPORTER 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6880" y="837720"/>
            <a:ext cx="79995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EXEMPLES D'INDICATEURS DANS LA BUDGÉTISATION BASÉE SUR LA PERFORMANCE POUR LE DÉVELOPPEMENT DE LA POP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19120" y="2057400"/>
            <a:ext cx="8091360" cy="4254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425760" y="2301840"/>
            <a:ext cx="18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  <a:ea typeface="Arial"/>
              </a:rPr>
              <a:t>Objectifs de la polit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3048120"/>
            <a:ext cx="29718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 Narrow"/>
                <a:ea typeface="Arial"/>
              </a:rPr>
              <a:t>Indicateurs d'en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 Narrow"/>
                <a:ea typeface="Arial"/>
              </a:rPr>
              <a:t>Budget, équipement, sorties de services, employés, logistique, construction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76560" y="3168720"/>
            <a:ext cx="266940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 Narrow"/>
                <a:ea typeface="Arial"/>
              </a:rPr>
              <a:t>Indicateurs de proces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  <a:ea typeface="Arial"/>
              </a:rPr>
              <a:t>Formation HRD, Contrôle/ Super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4132440"/>
            <a:ext cx="297180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Narrow"/>
                <a:ea typeface="Arial"/>
              </a:rPr>
              <a:t>Indicateurs de so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Performance, Utilisateurs de contraceptifs, </a:t>
            </a:r>
            <a:br>
              <a:rPr sz="1200"/>
            </a:b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uple-années de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5410080"/>
            <a:ext cx="29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 Narrow"/>
                <a:ea typeface="Arial"/>
              </a:rPr>
              <a:t>Indicateurs de Résultat/Impact</a:t>
            </a: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: Taux de Prévalence de la Contraception (TPC), </a:t>
            </a:r>
            <a:br>
              <a:rPr sz="1200"/>
            </a:b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Taux Total de Fertilité (TTF), Taux de </a:t>
            </a:r>
            <a:br>
              <a:rPr sz="1200"/>
            </a:b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roissance de la Population (TC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2030040"/>
            <a:ext cx="8686800" cy="30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 partir de l'examen des formats des budget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La budgétisation basée sur la performance peut revêtir différentes for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La budgétisation basée sur la performance fonctionne mieux dans le cadre de budgets organisés par program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Les objectifs de la budgétisation basée sur la performance devraient être liés au plan de développement global du gouvern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Les initiatives de BSG doivent davantage prendre en considération les politiques de développements et de plan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0880">
              <a:lnSpc>
                <a:spcPct val="80000"/>
              </a:lnSpc>
              <a:spcBef>
                <a:spcPts val="499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Arial"/>
              </a:rPr>
              <a:t>Les initiatives de BSG doivent donner définir par ordre de priorité les problèmes qu’elles cherchent a résoudre afin d’éviter d’être  submerg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QUELQUES IDÉES FIN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2207160"/>
            <a:ext cx="7619760" cy="11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50: Formulation de 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58: Guide mexicain de formulation des budgets du secteur de la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RÉFÉRENCE DU GUIDE PRATIQ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2361600"/>
            <a:ext cx="86868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225360" indent="-22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cherch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55520">
              <a:lnSpc>
                <a:spcPct val="80000"/>
              </a:lnSpc>
              <a:spcBef>
                <a:spcPts val="349"/>
              </a:spcBef>
              <a:buClr>
                <a:srgbClr val="d7761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Habituellement entreprise en dehors du gouvernement, comme base de plaidoyer, mais le gouvernement peut effectuer des recherches pour informer les politiques et budg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laidoy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55520">
              <a:lnSpc>
                <a:spcPct val="80000"/>
              </a:lnSpc>
              <a:spcBef>
                <a:spcPts val="349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Habituellement entrepris en dehors du gouvernement mais PEUT être au sein du gouvernement &amp; du par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ntrôl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55520">
              <a:lnSpc>
                <a:spcPct val="80000"/>
              </a:lnSpc>
              <a:spcBef>
                <a:spcPts val="400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ôle-clé du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parl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55520">
              <a:lnSpc>
                <a:spcPct val="80000"/>
              </a:lnSpc>
              <a:spcBef>
                <a:spcPts val="349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le gouvernemen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 devrait effectuer un contrôle dans le cadre de sa fonction de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55520">
              <a:lnSpc>
                <a:spcPct val="80000"/>
              </a:lnSpc>
              <a:spcBef>
                <a:spcPts val="349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La société civil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 peut contrôler l'implémentation du bud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ormat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55520">
              <a:lnSpc>
                <a:spcPct val="80000"/>
              </a:lnSpc>
              <a:spcBef>
                <a:spcPts val="349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Pour qui ? Par qui ? Pour faire quoi et apprendre quoi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nsibilisat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55520">
              <a:lnSpc>
                <a:spcPct val="80000"/>
              </a:lnSpc>
              <a:spcBef>
                <a:spcPts val="349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Pour qui ? Par qui ? Pour parvenir à quoi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nalyse &amp; conception des politique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55520">
              <a:lnSpc>
                <a:spcPct val="80000"/>
              </a:lnSpc>
              <a:spcBef>
                <a:spcPts val="349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C'est le rôle du Gouvernement mais il peut impliquer d'autres acte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533520"/>
            <a:ext cx="731376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ACTIVITÉS COMMUNES DE LA BS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6880" y="533520"/>
            <a:ext cx="799956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LES 5 ÉTAPES DE L'ANALYSE DE GENRE DES BUDG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1951560"/>
            <a:ext cx="838188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Décrire la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situation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 des femmes &amp; des hommes, des filles &amp; des garç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Vérifier si la 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politique est sensible au genre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 par ex. si elle aborde la situation décrite dans l'étap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Vérifier qu’un 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udget adéquat est alloué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 pour implémenter la politique sensible au gen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Vérifier que les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dépenses sont faites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 comme prév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Examiner l'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impact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 de la politique et des dépenses par ex. si cela a promu l'égalité des gen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La plupart des points exposés ci-dessus sont familiers aux personnes travaillant sur l'intégration des gen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La valeur ajoutée est l'inclusion des questions liées au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Insistez sur le fait que la situation détermine la politique qui à son tour détermine le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Les 5 étapes peuvent être utilis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22400">
              <a:lnSpc>
                <a:spcPct val="80000"/>
              </a:lnSpc>
              <a:spcBef>
                <a:spcPts val="451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Par ceux en dehors du gouvernement pour évaluer l'action du gouver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22400">
              <a:lnSpc>
                <a:spcPct val="80000"/>
              </a:lnSpc>
              <a:spcBef>
                <a:spcPts val="451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Par le gouvernement pour planifier au moyen de l'implémentation ou pour le suivi/évalu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902600"/>
            <a:ext cx="868680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méliore l'efficacité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en s'assurant que les dépenses vont à ceux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qui en ont le plus bes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méliore le contrô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en sachant quelles personnes les service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du gouvernement atteig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ontrôle l'implémentatio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et réduit la corru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méliore la transparence et la responsabi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Fournit un rapport sur la progressio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avec les engagement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ris au plan national et international pour promouvoir le gen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AVANTAGES DU TRAVAIL DE BSG POUR LE GOUVERN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92760" y="7380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686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USAGES DE LA BSG POUR LE GOUVERN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905120" y="2025720"/>
            <a:ext cx="4800600" cy="4098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76720" y="355284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Budgétisation Sensible au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Gen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48800" y="6076800"/>
            <a:ext cx="16621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  <a:ea typeface="Arial"/>
              </a:rPr>
              <a:t>Management de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  <a:ea typeface="Arial"/>
              </a:rPr>
              <a:t>l’ éxécu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87520" y="1600200"/>
            <a:ext cx="2003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  <a:ea typeface="Arial"/>
              </a:rPr>
              <a:t>Identifier les priorité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46960" y="2295360"/>
            <a:ext cx="1102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  <a:ea typeface="Arial"/>
              </a:rPr>
              <a:t>Evalu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10440" y="3714840"/>
            <a:ext cx="9824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  <a:ea typeface="Arial"/>
              </a:rPr>
              <a:t>Contr</a:t>
            </a:r>
            <a:r>
              <a:rPr b="0" lang="fr-FR" sz="1900" spc="-1" strike="noStrike">
                <a:solidFill>
                  <a:srgbClr val="000000"/>
                </a:solidFill>
                <a:latin typeface="Arial Narrow"/>
                <a:ea typeface="Arial"/>
              </a:rPr>
              <a:t>ô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  <a:ea typeface="Arial"/>
              </a:rPr>
              <a:t>le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8680" y="4968720"/>
            <a:ext cx="1586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  <a:ea typeface="Arial"/>
              </a:rPr>
              <a:t>Suivi et contr</a:t>
            </a:r>
            <a:r>
              <a:rPr b="0" lang="fr-FR" sz="1900" spc="-1" strike="noStrike">
                <a:solidFill>
                  <a:srgbClr val="000000"/>
                </a:solidFill>
                <a:latin typeface="Arial Narrow"/>
                <a:ea typeface="Arial"/>
              </a:rPr>
              <a:t>ô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  <a:ea typeface="Arial"/>
              </a:rPr>
              <a:t>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53520" y="2266920"/>
            <a:ext cx="2024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  <a:ea typeface="Arial"/>
              </a:rPr>
              <a:t>Promouvoir l’ égalité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663600" y="3746520"/>
            <a:ext cx="12459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  <a:ea typeface="Arial"/>
              </a:rPr>
              <a:t>Planific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79280" y="4952880"/>
            <a:ext cx="22687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  <a:ea typeface="Arial"/>
              </a:rPr>
              <a:t>Utilisation optimale des 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 Narrow"/>
                <a:ea typeface="Arial"/>
              </a:rPr>
              <a:t>ressources  Humaine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58440"/>
            <a:ext cx="73137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GUIDE MEXICAIN POUR L'ÉTABLISSEMENT DU BUDGET DANS LE SECTEUR DE LA SANT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068920"/>
            <a:ext cx="8686800" cy="42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22400" indent="-122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Guide développé en collaboration avec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Ministère de la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2 ONG – une pour l'analyse du budget &amp; une pour les droits des fem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But : Assister les planificateurs du gouvernement pour la conception de politiques &amp; budgets sensibles au gen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Introducti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La BSG ne s’int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é</a:t>
            </a: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resse pas</a:t>
            </a:r>
            <a:r>
              <a:rPr b="0" i="1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à</a:t>
            </a:r>
            <a:r>
              <a:rPr b="0" i="1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combien d'argent est dépensé en services pour les fem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La BSG consiste à allouer de l'argent aux activités qui éliminent les barrières genre envers (principalement) les femmes et (parfois) les hommes accédant aux services de sant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Six étapes pour la formulation de budgets sensibles au genr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Diagnostic 1 : Révision du diagnostic en utilisant une perspective d'égalité des gen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Diagnostic 2 : Analyse de l'égalité des gen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Programmation 1 : Détermination des composantes et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Programmation 2 : Détermination des prior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Budgétisation 1 : Allocation de ressources pour corriger l'inégalité des gen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22040">
              <a:lnSpc>
                <a:spcPct val="80000"/>
              </a:lnSpc>
              <a:spcBef>
                <a:spcPts val="451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Budgétisation 2 : Identification d'indica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7240" y="658440"/>
            <a:ext cx="73137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GUIDE MEXICAIN POUR L'ÉTABLISSEMENT DU BUDGET DANS LE SECTEUR DE LA SANTÉ 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80000"/>
            <a:ext cx="868680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3 catégories correspondant aux 3 premières étapes de l'approche en 5 éta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74600">
              <a:lnSpc>
                <a:spcPct val="80000"/>
              </a:lnSpc>
              <a:spcBef>
                <a:spcPts val="451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Exprimé plus clairement en actions à entreprendre par les fonctionnaires lorsqu'ils établissent les bud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Le guide insiste sur la prioritisation des stratégies et actions ayant un impact considérable sur l'égalité des gen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74600">
              <a:lnSpc>
                <a:spcPct val="80000"/>
              </a:lnSpc>
              <a:spcBef>
                <a:spcPts val="451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Il ne s'agit pas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 (habituellement) de changer les programmes exis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74600">
              <a:lnSpc>
                <a:spcPct val="80000"/>
              </a:lnSpc>
              <a:spcBef>
                <a:spcPts val="451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Il s'agit d'incorporer progressivement des critères d'égalité de genres dans chaque é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Questions pour aider à l'incorporation du genr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74600">
              <a:lnSpc>
                <a:spcPct val="80000"/>
              </a:lnSpc>
              <a:spcBef>
                <a:spcPts val="451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Dans quelles rubriques existantes des fonds dédiés à des actions envers l'égalité de genres peuvent-ils être inclu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74600">
              <a:lnSpc>
                <a:spcPct val="80000"/>
              </a:lnSpc>
              <a:spcBef>
                <a:spcPts val="451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Dans quels composantes existantes de nouvelles rubriques (ou sous-programmes) peuvent-elle être inclus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74600">
              <a:lnSpc>
                <a:spcPct val="80000"/>
              </a:lnSpc>
              <a:spcBef>
                <a:spcPts val="451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Est-il nécessaire d'allouer des ressources pour créer de nouvelles/meilleures données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74600">
              <a:lnSpc>
                <a:spcPct val="80000"/>
              </a:lnSpc>
              <a:spcBef>
                <a:spcPts val="451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Certaines ressources devraient-elles être dirigées vers des groupes particuliers pour apporter une solution 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à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 leurs besoins spécifiqu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74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33520" y="2085480"/>
            <a:ext cx="868680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marL="174600" indent="-174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Selon la gestion budgétaire axée sur la performance, les budgets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122040">
              <a:lnSpc>
                <a:spcPct val="80000"/>
              </a:lnSpc>
              <a:spcBef>
                <a:spcPts val="451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ne concernent pas uniquement la comptabilité financiè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122040">
              <a:lnSpc>
                <a:spcPct val="80000"/>
              </a:lnSpc>
              <a:spcBef>
                <a:spcPts val="451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devraient aligner l'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argent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 avec les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politiques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 et les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objectifs globaux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 du gouvernement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(y compris l'égalité des gen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La lettre circulaire pour la budgétisation basée sur la performance énonce habituellement que 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122040">
              <a:lnSpc>
                <a:spcPct val="80000"/>
              </a:lnSpc>
              <a:spcBef>
                <a:spcPts val="451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Les agences doivent présenter </a:t>
            </a:r>
            <a:r>
              <a:rPr b="1" i="1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la mission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les buts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les problèmes stratégiques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, </a:t>
            </a:r>
            <a:r>
              <a:rPr b="1" i="1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les objectifs, les indicateurs de performance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La budgétisation axée sur la performance s’inscrit dans le même cadre que l'approche en 5 éta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122040">
              <a:lnSpc>
                <a:spcPct val="80000"/>
              </a:lnSpc>
              <a:spcBef>
                <a:spcPts val="451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Mais la BSG ajoute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Equité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 aux 3 E traditionnels à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 savoir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i="1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Economie, Efficacité et Effectivi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Incorporer le genre à la budgétisation basée sur la performance 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122040">
              <a:lnSpc>
                <a:spcPct val="80000"/>
              </a:lnSpc>
              <a:spcBef>
                <a:spcPts val="451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Les problèmes de genre peuvent explicitement ou implicitement être reflétés dans les </a:t>
            </a:r>
            <a:r>
              <a:rPr b="0" i="1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objecti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122040">
              <a:lnSpc>
                <a:spcPct val="80000"/>
              </a:lnSpc>
              <a:spcBef>
                <a:spcPts val="451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Le genre peut explicitement être reflété par la </a:t>
            </a:r>
            <a:r>
              <a:rPr b="0" i="1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désagrégation des cibles et indica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122040">
              <a:lnSpc>
                <a:spcPct val="80000"/>
              </a:lnSpc>
              <a:spcBef>
                <a:spcPts val="451"/>
              </a:spcBef>
              <a:buClr>
                <a:srgbClr val="f0813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Le genre peut être reflété par l'inclusion de </a:t>
            </a:r>
            <a:r>
              <a:rPr b="0" i="1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cibles et indicateurs qui se concentrent sur des problèmes pertinents pour le genre 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  <a:ea typeface="Arial"/>
              </a:rPr>
              <a:t>par ex. la violence envers les femmes ou la ferti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58440"/>
            <a:ext cx="86868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BSG &amp; GESTION BUDGÉTAIRE AXÉE SUR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LA PERFORM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6868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GESTION BUDGÉTAIRE AXÉE SUR LA PERFORMANCE </a:t>
            </a:r>
            <a:br>
              <a:rPr sz="2600"/>
            </a:b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ET LES 3 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39560" y="2133720"/>
            <a:ext cx="8212320" cy="424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91080" y="2274840"/>
            <a:ext cx="14518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Provide health</a:t>
            </a:r>
            <a:br>
              <a:rPr sz="1500"/>
            </a:b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care which</a:t>
            </a:r>
            <a:br>
              <a:rPr sz="1500"/>
            </a:b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prevents disea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06560" y="2274840"/>
            <a:ext cx="126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labor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infrastructure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11520" y="2274840"/>
            <a:ext cx="111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Glaucoma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ye disease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screen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64720" y="2274840"/>
            <a:ext cx="125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Reduced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evalence of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ye dis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71800" y="250020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85680" y="4179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conom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19720" y="4179960"/>
            <a:ext cx="94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35680" y="4179960"/>
            <a:ext cx="123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ffective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42760" y="5614920"/>
            <a:ext cx="1197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Cost of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medical sta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74800" y="5614920"/>
            <a:ext cx="968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Cost per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scre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92760" y="5500800"/>
            <a:ext cx="15494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Detection rates</a:t>
            </a:r>
            <a:br>
              <a:rPr sz="1500"/>
            </a:b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of glaucoma for</a:t>
            </a:r>
            <a:br>
              <a:rPr sz="1500"/>
            </a:b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target popul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61240" y="1817640"/>
            <a:ext cx="143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olicy obj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92040" y="1817640"/>
            <a:ext cx="6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f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40160" y="1817640"/>
            <a:ext cx="68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n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72120" y="18176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out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38840" y="181764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848720" y="1939680"/>
            <a:ext cx="75960" cy="152280"/>
          </a:xfrm>
          <a:prstGeom prst="line">
            <a:avLst/>
          </a:prstGeom>
          <a:ln w="9360">
            <a:solidFill>
              <a:srgbClr val="f08138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10040" y="1665360"/>
            <a:ext cx="8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nutr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7880" y="5748480"/>
            <a:ext cx="203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erformance indi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15200" y="5486400"/>
            <a:ext cx="77724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Figure 2.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he basic structure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outcomes and outpu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budgeting application t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 health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21:33:58Z</dcterms:created>
  <dc:creator>Meli</dc:creator>
  <dc:description/>
  <dc:language>en-US</dc:language>
  <cp:lastModifiedBy>natalia  tomaszewska</cp:lastModifiedBy>
  <dcterms:modified xsi:type="dcterms:W3CDTF">2007-03-08T19:10:37Z</dcterms:modified>
  <cp:revision>57</cp:revision>
  <dc:subject/>
  <dc:title>PowerPoint Presentation</dc:title>
</cp:coreProperties>
</file>