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05920" y="6324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19A-9344-4155-9305-FA9131728AFB}" type="slidenum">
              <a:rPr b="0" lang="en-US" sz="14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QU’EST-CE QU’UN BUDGET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LASSIFICATION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ÉPARTEMENT DE LA SANTÉ DE GAUTE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029320"/>
            <a:ext cx="868680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ue d'ensemble stratégique et domaines de politiques c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onctions principales du Dépar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éveloppement de la pol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dat législ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ts &amp; objectifs stratégiques départemen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évision de l'année financière précé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spectives pour l'année financière à 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çus et fin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is analyse programme par program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DÉPARTEMENT DE LA SANTÉ DE GAUTENG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93680"/>
            <a:ext cx="70102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ur chaque program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scription du programme (but glob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du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de la pol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es dépenses pour 7 années par sous-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économiques désagrégés pour 7 a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duits-clés &amp; mesures de la fourniture de service (y compris les c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MINISTÈRE DE LA SANTÉ DU PAKIST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946880"/>
            <a:ext cx="8686800" cy="44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Particularités (détails bureaucratiqu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Déclaration de la mission/politiq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10 points de la Politique National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Déclaration des objectif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esures courantes &amp; cibles pour 5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Allocations à moyen terme par objectifs de la politiq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3 années, 8 sur 1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fonctionnelle des dépen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9 catégories, 3 ans, courant vs.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des dépenses par objet (économiqu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10 catégories "principales", 3 ans, courant vs.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A STRUCTURE D'UN BUDGET DANS LA VIE RÉELLE :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MINISTÈRE DE LA SANTÉ DU PAKISTAN</a:t>
            </a: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12240"/>
            <a:ext cx="8686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croisée d'objet vs. classification 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ur chacune des 3 années, séparées pour courant &amp; développement, différents ‘noms’ pour les fonctions par rapport au précédent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dicateurs principaux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opérations courantes, puis par programmes (financés par le donn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étaillés pour les dépenses courantes, compte de revenus par 3 divisions, pour 3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0476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lassification par 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iffres détaillés d'abord, résumés par division, puis décomposés pour chaque unité de dépenses (classification administ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572920"/>
            <a:ext cx="8686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formats du budget peuvent être compliqués &amp; impressionn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choses se simplifient lorsque vous connaissez le format et les conventions du pays sur lequel vous travail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62320" y="3246120"/>
            <a:ext cx="548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4 : A quoi ressemblent les budg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82196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n budget est u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lan de ce que le gouvernement prévoit de dépenser sur différents éléments /pour différents sujets dans l'année à 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 format du budget peut aussi révé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i le gouvernement s'en est tenu à ses plans pour les années précé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 que le gouvernement prévoit de délivrer ou a délivré en termes non moné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12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’EST-CE QU’UN BUDGET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712880"/>
            <a:ext cx="86868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Le nombre &amp; les types de publications varient en fonction des p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Quelques composantes possible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budgét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onnées chiffré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sur la situation économique génér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Discours sur la politique &amp; la fourniture d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Certains documents peuvent ne pas être soumis le jour du vote du budget par ex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Cadre de travail politique/budget à moyen terme généralement soumis AVANT budg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Rapports annuels des agences sont fournis APRES la fin de l'année budgét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12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 Narrow"/>
                <a:ea typeface="Arial"/>
              </a:rPr>
              <a:t>Tous ces documents peuvent être utiles dans le cadre de la BS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E BUDGET COMPORTE DIVERS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989360"/>
            <a:ext cx="86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dépenses budgétaires peuvent être classées de faç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nc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n général, les gouvernements combinent plusieurs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CLASSIFICATIONS DU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60800"/>
            <a:ext cx="868680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 principales catégories de dépens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ourantes = dépenses pour les services &amp; articles devant durer moins d'une année &amp; nécessaires pour poursuivre les opérations du gouver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salaires des fonction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subventions aux entreprises, foyers &amp; individ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pour les opérations et la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Capital = dépenses pour les articles &amp; services devant être utilisés pendant plus d'une an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sur l'assistance technique &amp; la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sur les terrains, les constructions, l'infrastructure, l'équi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00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[Possible 3</a:t>
            </a:r>
            <a:r>
              <a:rPr b="0" i="1" lang="en-ZA" sz="1600" spc="-1" strike="noStrike" baseline="30000">
                <a:solidFill>
                  <a:srgbClr val="000000"/>
                </a:solidFill>
                <a:latin typeface="Arial Narrow"/>
                <a:ea typeface="宋体"/>
              </a:rPr>
              <a:t>ème</a:t>
            </a:r>
            <a:r>
              <a:rPr b="0" i="1" lang="en-ZA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 catégorie = transfers et sub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Transferts forfaitaires à dépenser par le destinatair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4560" indent="103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La classification par objet est une classification économique plus détaill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ÉCONOM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594880"/>
            <a:ext cx="68580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épenses classifiées sous l'agence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ex. selon les Ministères ou Dépar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ar ex. selon les hôpitaux &amp; cli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ette classification est habituellement utilisée en combinaison avec un autre type d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ADMINISTR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033640"/>
            <a:ext cx="81532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Dépenses regroupées selon la fonction/l'objet pour lequel elles sont dépen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l existe des similarités entre les classifications administratives &amp; fonctionnelles, mais elles sont différente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1592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r ex. le Ministère de la Défense peut dépenser de l'argent sur les services médicaux pour son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ification fonctionnelle =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12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ification administrative = Ministère de la Dé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FONCTIONN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353320"/>
            <a:ext cx="868680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ogramm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ensemble d'activités que le gouvernement entreprend pour atteindre un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ouvent utilisée avec la classification administrative par ex. le budget de chaque agence est divisé en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es programmes sont parfois à nouveau divisés en sous-programmes ou projets, chacun avec son propr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mplication si la structure du gouvernement n'est pas organisée en fonction de ses 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LASSIFICATION PAR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716120"/>
            <a:ext cx="86868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ans certains pays, le budget est divisé en 2 part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récurrent, opérationnel ou de "reven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uvre principalement les dépenses opération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udget de développement ou d'invest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stiné à couvrir les dépenses à long te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Souvent utilisé, principalement pour refléter la partie du budget provenant des donneurs &amp; le financement requis en contre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porte les dépenses opérationnelles pour les "projet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distinction entre budget opérationnel &amp; budget de développement peu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acher les implications d'un budget pour l'au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ar ex. une nouvelle clinique aura besoin de personnel et de médic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omouvoir la responsabilité partag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Commission de Planification pour le budget développement &amp; Ministère des Finances pour l’opéra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BIEN DE BUDGE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6:19Z</dcterms:created>
  <dc:creator>Meli</dc:creator>
  <dc:description/>
  <dc:language>en-US</dc:language>
  <cp:lastModifiedBy>natalia  tomaszewska</cp:lastModifiedBy>
  <dcterms:modified xsi:type="dcterms:W3CDTF">2007-03-08T20:21:15Z</dcterms:modified>
  <cp:revision>30</cp:revision>
  <dc:subject/>
  <dc:title>PowerPoint Presentation</dc:title>
</cp:coreProperties>
</file>