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5872c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749000" y="61722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214A-3FD7-4BDF-BC70-9350D0F4C930}" type="slidenum">
              <a:rPr b="0" lang="en-US" sz="1600" spc="-1" strike="noStrike">
                <a:solidFill>
                  <a:srgbClr val="ea843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2895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 Narrow"/>
              </a:rPr>
              <a:t>IL EXISTE PLUS DE POSSIBILITÉS DISPONIBLES 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Arial Narrow"/>
              </a:rPr>
              <a:t>QUE VOUS NE LE PENSEZ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854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DONNÉES REQUISES POUR LA B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1833840"/>
            <a:ext cx="868680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ctivités supplémentaires pour poser les fondations de l'intégration du travail de soins non rémunéré dans le modèle macroéconomiqu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Ateliers de travail pour expliquer l'importance de cette déma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Recherche dans 2 districts sur le temps passé par les membres de la famille à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soigner les personnes atteintes du VIH/S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Réunions avec le Bureau National des Statistiques (NBS) &amp; proposition d'apporter un support pour collecter des fonds et une expertise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laidoyer &amp; sensibilisation auprès des décideurs en matière budgé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09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-&gt; NBS accepta de faire l'enquê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09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-&gt; Le Gouvernement accepta de financer l’enquê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09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-&gt; L'UNICEF apporta une petite somme pour le support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09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tude sur l'utilisation du temps en cours sur le terrain tout au long de l'année comme ajout aux enquêtes sur la main d’œuv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TGNP offre un support technique &amp; et réfléchit à la façon d’utiliser les don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PLAIDOYER D’UNE ONG TANZANIENNE  SUR 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L’UTILISATION DU TEMPS </a:t>
            </a: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819080"/>
            <a:ext cx="8686800" cy="46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Travailler avec les agences de statistiques du gouvernement pour recueillir des données plus précises sur le gen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ar ex. Les ONG du Pakistan financées par l'UNFPA pour aider au recensement de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09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Une ONG a procédé à une formation sur le genre pour les agents recenseurs afin qu'ils puissent reconnaître le travail "invisible" accompli par les fe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09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Une ONG a mis en place 120 organisations de base pour mener des réunions au niveau du district afin d’attirer l’attention sur la contribution des fe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09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oulever les problèmes si les indicateurs sont biais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ar ex. Prévalence du taux de contraception basée uniquement sur les femmes mari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ar ex. enquêtes qui ne couvrent pas toutes les zones/ personnes (par ex. décisions informelles ou travailleurs migra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AUTRES POSSIBILITÉS POUR LES O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76720" y="3093840"/>
            <a:ext cx="243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Les Statist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RÉFÉRENCE DU GUIDE PRAT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2120" y="1890720"/>
            <a:ext cx="7696080" cy="45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</a:rPr>
              <a:t>Les données désagrégées selon le sexe distinguent les hommes des femmes par e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Nombre d'hommes et de femmes stérilis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Nombre d'hommes médecins et de femmes médec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nnées sensibles au genre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onnées désagrégées 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données sur des problèmes qui sont importants à partir d'une perspective genre par e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09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données sur la mortalité maternel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09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données sur la violence contre les fem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09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</a:rPr>
              <a:t>Nous avons besoin des deux types de données pour la BS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DONNÉES DÉSAGRÉGÉES SELON LE SEXE VERSUS DONNÉES SENSIBLES AU GEN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718280"/>
            <a:ext cx="86868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</a:rPr>
              <a:t>L'analyse genre du budget est souvent rendue difficile par le manque de données désagrégé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9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Pas de désagrégation homme/femm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9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Pas de désagrégation des allocations en fonction des dépenses pertin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09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Par ex. pas de ligne budgétaire séparée pour la police qui s’occupe des questions de violence domesti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09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Par ex. ne peut pas distinguer entre les patients traités pour des problèmes liés au VIH et les patients traités pour d’ autres problè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09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</a:rPr>
              <a:t>Le manque de désagrégation des chiffres du budget ne rend pas l'analyse genre impos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9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On peut utiliser des approxim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09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Par ex. le nombre d’interdictions de VAW traité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09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Par ex. nombre de personnes testées pour le VIH ou recevant des AR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DÉSAGRÉGATION DES BUDG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418840"/>
            <a:ext cx="832320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La budgétisation basée sur la performance utilise 3 types d'indicateurs en relation avec les "activités" du gouvernement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9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Les entrées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 reflètent ce qui est acheté avec les allocations budgétaires afin de pouvoir entreprendre des activit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9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Les produits 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reflètent ce qui est "délivré" par les activit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9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Les effets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 reflètent les « résultats" des activit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Certains pays ont aussi des indicateurs de "</a:t>
            </a:r>
            <a:r>
              <a:rPr b="1" lang="fr-FR" sz="2200" spc="-1" strike="noStrike">
                <a:solidFill>
                  <a:srgbClr val="000000"/>
                </a:solidFill>
                <a:latin typeface="Arial Narrow"/>
              </a:rPr>
              <a:t>processus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INDICATEURS DE BUDG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5200" y="1838520"/>
            <a:ext cx="868680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Un indicateur fournit des "indications" sur la situation, non pas une image complè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= système d'alerte pour les domaines où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d'autres investigations sont nécess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réquenc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our les entrées et produits, on a besoin de données sur une base annu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our les résultats on peut avoir des données moins réguliè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eux principales sources de donn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Administratives – émanant du gouvernement dans la conduite régulière de ses aff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09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Bonnes pour la BSG car directement liées à des services particu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censement et enquê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09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Bons pour l'analyse situationnelle ou pour les résultats car ils reflètent la population enti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ais il peut y avoir des contradictions entre les données administratives &amp; les données d'enquê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Il faut donc comparer pour tester la fiabi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QU’EST-CE QU’UN "INDICATEUR" 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1800360"/>
            <a:ext cx="7315200" cy="45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Administrative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Système d'Information de Gestion de la Santé (&amp; aut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Visites de services de santé/registres d'inscri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Recensement de la population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Généralement tous les 10 ans, donc pas très utile pour les budgets annu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Enquête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nquête sur la mesure des niveaux de vi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Enquêtes démographiques &amp; sur la san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Enquêtes sur la main d'oeuv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Enquête de groupes à indicateurs multiples (UNICE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Enquêtes sur l'utilisation du tem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PRINCIPALES SOURCES DE DONNÉ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1924560"/>
            <a:ext cx="8686800" cy="41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Plainte fréquente dans les initiatives de BSG (et autres initiatives d’intégration du genre)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10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Il n'y pas ou il y’a peu de données liées au gen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Le manque de statistiques sur le genre ne doit pas empêcher de faire le travail. Le travail sur la BSG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10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peut donner l’impulsion pour plus et de meilleures données sensibles au gen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10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peut stimuler des enquêtes/investigations un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100000"/>
              </a:lnSpc>
              <a:spcBef>
                <a:spcPts val="550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Mieux, peut conduire à la création/amélioration de systèmes administratifs institutionnalis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QUE FAIRE SI IL N'Y A PAS DE DONNÉES DISPONIBLES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2047680"/>
            <a:ext cx="8686800" cy="46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Faire de la recherche à petite éch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Utiliser les résultats jusqu'à ce que le gouvernement ait des  résultats à plus grande échelle qui contredisent les vô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Démontrer qu’il est possible de recueillir des données sur de nouveaux problè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alyser les données exis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Désagréger les données par sexe lorsque l'analyse standard ne le fait 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gnaler les questions/problèmes manqu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Signaler les questions mal rédig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Signaler d'autres problèmes dans la méthod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Signaler des résultats contradictoires émanant de sources diffé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Offrir l'expertise de l'ONG pour assister les collecteurs de données officie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QUE PEUVENT FAIRE LES ONG 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280" y="2077560"/>
            <a:ext cx="8839440" cy="40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1997 : Le Réseau de travail sur le Genre en Tanzanie entreprit de travailler sur la B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En commençant par une évaluation sexo-specifique des politiques dans l'éducation, la santé, l'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1998 : Le Ministère des Finances entreprit des travaux de BSG à l'intérieur du gouver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Demanda au TNGP d‘assister les fonctionnaires de secteurs précis dans la formation et le 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Ensuite, le TGNP est allé au-delà du budget pour influencer le secteur plus large de la planification macroécono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Réalisation d’une enquête sur l'utilisation du temps afin de produire les données manqu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Organisation de réunions &amp; ateliers avec la Commission de Planification pour la sensibi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Plaidoyer pour obtenir la désagrégation selon le sexe de la partie du modèle macroéconomique relative à la main d'œ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5872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Commission d’une étude basée sur le nouveau modèle macroéconomique désagrégé selon le sexe pour montrer le potentiel exi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8212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PLAIDOYER D’UNE ONG TANZANIENNE  SUR 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L’UTILISATION DU TEM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0:00:53Z</dcterms:created>
  <dc:creator>Meli</dc:creator>
  <dc:description/>
  <dc:language>en-US</dc:language>
  <cp:lastModifiedBy>natalia  tomaszewska</cp:lastModifiedBy>
  <dcterms:modified xsi:type="dcterms:W3CDTF">2007-03-08T22:11:57Z</dcterms:modified>
  <cp:revision>24</cp:revision>
  <dc:subject/>
  <dc:title>PowerPoint Presentation</dc:title>
</cp:coreProperties>
</file>