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4564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EC81-6E3D-4C4A-969A-82AAD0BB08C8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STIMATION DU  COÛT DES O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7320"/>
            <a:ext cx="91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CENTRÉE SUR LA SANTÉ EN MATIÈRE DE </a:t>
            </a:r>
            <a:br>
              <a:rPr sz="2600"/>
            </a:br>
            <a:r>
              <a:rPr b="0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REPRODUCTION &amp; LE GEN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782360"/>
            <a:ext cx="868680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Beaucoup de pays affirment que les OMD constituent leur plan de développement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Si nous disons que le budget doit suivre le plan, les OMD deviennent importants pour la B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l existe plusieurs estimations différentes du coût global des OM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es estimations globales sont principalement utiles pour informer les NU, donneurs et IFI des besoins « additionnel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ertains pays développent des estimations nat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e peut être un signe que les OMDs sont pris au sér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ifférentes approch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 les OMD comme un t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 des buts spécif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ff8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 d'autres catégor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STIMATION DU COÛT DES OM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888920"/>
            <a:ext cx="86868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Grande variation dans les estim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Rapport Zedillo du Panel de Haut Niveau sur le FFD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50 milliards de $/an pour atteindre les OMD en 2 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Banque Mondiale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: Coût aux donneurs = 35 - 76 milliars US$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Document de reference UNDP HDR: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Objectif 1 = 76 milliards 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YFF de l'UNFP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a Banque Mondiale estime 20-25 milliards US$/an pour les MDG liés à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a santé 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es flux de ressources financières internationales pour l'assistance liée à la population = 2,5 milliards 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stimations nationales sont plus utiles pour la BS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ourraient être plus précises parce basées sur des données plus concrè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1268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euvent être utilisées dans les discussions à propos du budget  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STIMATIONS GLOB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96680"/>
            <a:ext cx="8686800" cy="54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0 "modèles«  d’évaluation des besoins avec tableaux de désagrégation et modes d'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division en modèles ne correspond pas à la division en objectif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Gen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au &amp; assain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anté de l'enf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anté maternelle &amp; en matière de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IH/S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lud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ubercu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ritique provenant de la BSG du Maro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ment tenir compte des interactions transversales entre les objectif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OUTILS DU PROJET DU MILLÉ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1756440"/>
            <a:ext cx="67816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Etablissement du prix de revient des interventions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0 pour la planification famil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pour les soins prénataux et l'accouch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7 pour les complications obstétric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pour les autres conditions mater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 pour les nouveaux-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5 pour les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alcul pour chaque interven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ût par cas moy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nombre de bénéficiaires potentiels par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ût annuel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Fourn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ersonnel, médicaments &amp; autres fourn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e </a:t>
            </a:r>
            <a:r>
              <a:rPr b="1" i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couvre</a:t>
            </a:r>
            <a:r>
              <a:rPr b="1" lang="en-ZA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pa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12680">
              <a:lnSpc>
                <a:spcPct val="80000"/>
              </a:lnSpc>
              <a:spcBef>
                <a:spcPts val="788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ût des installations, équipement &amp; autres frais gén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UTIL SUR LA SANTÉ MATERNELLE ET LA SANTÉ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N MATIERE DE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813320"/>
            <a:ext cx="701028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ur utiliser le modèle, il faut 5 types de donn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démograph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ar ex. nombre de femmes en âge d'avoir des enf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épidémi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ar ex. incidence des complications de grossesse et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Taux de couverture courants pour différent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formations requises pour les médicaments et fourn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sur les prix de revient pour le personnel, les médicaments &amp; autres fourn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ossiers/documents fourn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ût par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ût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d'outils d’estimation des coûts par défaut (pour 200 p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(y compris la source &amp; les hypothè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Formulaire de recueil des données pour le "coût tota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ode d'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UTIL SUR LA SANTÉ MATERNELLE ET LA SANTÉ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N MATIERE DE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63908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a au-delà de l’objectif sur le gen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mporte les interventions spécifiques au genre couvertes dans les évaluations des besoins pour les autres "secteur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upporte les besoins pour "engendrer" tous les ob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révoit pour les évaluations de besoins en genre ce qui est nécessaire pour établir des politiques genre (comme des plans nationaux) opération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ermet d’estimer les éléments non couverts par les évaluations des besoins pour d'autres sec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Né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révue pour souligner &amp; encourager les interventions genre mais pourrait avoir un effet opp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Genre vu comme "extra" &amp; ignoré si ressources limit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114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illeure appro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'assurer que les interventions de genre sont incluses dans les  modèles des secteurs tradit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STIMATION SÉPARÉE DE L'ÉGALITÉ DE GEN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718280"/>
            <a:ext cx="86868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Questionner les stratégies proposées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pourquoi pas de préservatifs fémin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Questionner les indicateurs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usage de la contraception pour les femmes mariées un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Examiner les valeurs des données par défaut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tes-vous d'accord avec les valeurs décrivant la situ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tes-vous d'accord avec les niveaux proposés pour la rémunération du personnel par ex. médecins vs infirmiè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Manque-t-il certaines interventions liées au gen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Les interventions sur la violence envers les femmes devraient-elles être inclu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QUELQUES OPPORTUNITÉS POUR LA B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19520" y="3200040"/>
            <a:ext cx="39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valuer le co</a:t>
            </a: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Arial"/>
              </a:rPr>
              <a:t>û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 des  O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3:02:16Z</dcterms:created>
  <dc:creator>Meli</dc:creator>
  <dc:description/>
  <dc:language>en-US</dc:language>
  <cp:lastModifiedBy>natalia  tomaszewska</cp:lastModifiedBy>
  <dcterms:modified xsi:type="dcterms:W3CDTF">2007-03-08T21:31:56Z</dcterms:modified>
  <cp:revision>23</cp:revision>
  <dc:subject/>
  <dc:title>PowerPoint Presentation</dc:title>
</cp:coreProperties>
</file>